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wmf" ContentType="image/x-wmf"/>
  <Override PartName="/ppt/media/image11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19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1.jpeg" ContentType="image/jpeg"/>
  <Override PartName="/ppt/media/image5.png" ContentType="image/png"/>
  <Override PartName="/ppt/media/image3.wmf" ContentType="image/x-wmf"/>
  <Override PartName="/ppt/media/image1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6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7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5237-6EEC-4083-B319-B8C594961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studied at the University of Vienna from 1851 to 1853 where he was influenced by a physicist who encouraged experimentation and the application of mathematics to science and a botanist who aroused Mendel’s interest in the causes of variation in plants.  After the university, Mendel taught at the Brunn Modern School and lived in the local monaste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nks at this monastery had a long tradition of interest in the breeding of plants, including peas. Around 1857, Mendel began breeding garden peas to study inheri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nkled seeds in pea plants with two copies of the recessive allele are due to the accumulation of monosaccharides and excess water in seeds because of the lack of a key enzyme. The seeds wrinkle when they d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homozygous dominants and heterozygotes produce enough enzyme to convert all the monosaccharides into starch and form smooth seeds when they d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= filial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typical breeding experiment, Mendel would cross-pollinate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ybridiz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two contrasting, true-breeding pea varie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ue-breeding parents are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 gener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ir hybrid offspring are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gener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 would then allow the 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ybrids to self-pollinate to produce an 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24EDA-B010-47D7-A8EB-063ADF8E13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0EDD9-EA32-4CA9-96CD-A49CBFC8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8B1A2-AB23-4307-B300-9142C2A7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A9E94-DFBE-403D-B614-1C673B6535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8C1F2-A156-4DE4-8C7C-BC1C6F71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0D2A6-F622-4695-B6A6-1403CB82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FD227-A0E2-4C7A-8296-6D9568C2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63152-EBBA-4845-9A7F-82A5CF4FD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475F4-C2F6-4F50-A899-E5E922B62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8B92A-5442-4764-A72B-081FE4B5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BF9AA-956D-4F91-A848-FD13674A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95748-E6CF-415D-BA99-1DF84027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5774-A531-4B69-A7C9-BA021137BBF4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52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6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Chapter  14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endel &amp; Genetic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730920" y="380880"/>
            <a:ext cx="2413080" cy="2971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rcRect l="67543" t="1443" r="15927" b="82803"/>
          <a:stretch/>
        </p:blipFill>
        <p:spPr>
          <a:xfrm>
            <a:off x="7543800" y="2819520"/>
            <a:ext cx="755640" cy="765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rcRect l="47789" t="1802" r="35681" b="82803"/>
          <a:stretch/>
        </p:blipFill>
        <p:spPr>
          <a:xfrm>
            <a:off x="6400800" y="1916280"/>
            <a:ext cx="754200" cy="747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0" y="3944880"/>
            <a:ext cx="3200400" cy="2913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rcRect l="0" t="2252" r="45001" b="0"/>
          <a:stretch/>
        </p:blipFill>
        <p:spPr>
          <a:xfrm>
            <a:off x="7467480" y="4495680"/>
            <a:ext cx="1487520" cy="1981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7C89-8133-4143-A453-D7563ABCDEF9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aking cross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using representative letter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lower color alleles </a:t>
            </a:r>
            <a:r>
              <a:rPr b="1" lang="en-US" sz="28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or </a:t>
            </a:r>
            <a:r>
              <a:rPr b="1" i="1" lang="en-US" sz="2800" spc="-1" strike="noStrike">
                <a:solidFill>
                  <a:srgbClr val="660066"/>
                </a:solidFill>
                <a:latin typeface="Arial"/>
              </a:rPr>
              <a:t>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rue-breeding purple-flower peas </a:t>
            </a:r>
            <a:r>
              <a:rPr b="1" lang="en-US" sz="28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P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rue-breeding white-flower peas </a:t>
            </a:r>
            <a:r>
              <a:rPr b="1" lang="en-US" sz="28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660066"/>
                </a:solidFill>
                <a:latin typeface="Arial"/>
              </a:rPr>
              <a:t>p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rcRect l="44605" t="0" r="11727" b="46683"/>
          <a:stretch/>
        </p:blipFill>
        <p:spPr>
          <a:xfrm>
            <a:off x="2057400" y="4038480"/>
            <a:ext cx="1996920" cy="2589480"/>
          </a:xfrm>
          <a:prstGeom prst="rect">
            <a:avLst/>
          </a:prstGeom>
          <a:ln w="0">
            <a:noFill/>
          </a:ln>
        </p:spPr>
      </p:pic>
      <p:grpSp>
        <p:nvGrpSpPr>
          <p:cNvPr id="181" name=""/>
          <p:cNvGrpSpPr/>
          <p:nvPr/>
        </p:nvGrpSpPr>
        <p:grpSpPr>
          <a:xfrm>
            <a:off x="4822560" y="4114440"/>
            <a:ext cx="2550600" cy="794880"/>
            <a:chOff x="4822560" y="4114440"/>
            <a:chExt cx="2550600" cy="794880"/>
          </a:xfrm>
        </p:grpSpPr>
        <p:sp>
          <p:nvSpPr>
            <p:cNvPr id="182" name=""/>
            <p:cNvSpPr/>
            <p:nvPr/>
          </p:nvSpPr>
          <p:spPr>
            <a:xfrm>
              <a:off x="4822560" y="4114440"/>
              <a:ext cx="95796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600" spc="-1" strike="noStrike">
                  <a:solidFill>
                    <a:srgbClr val="660066"/>
                  </a:solidFill>
                  <a:latin typeface="Arial"/>
                </a:rPr>
                <a:t>PP</a:t>
              </a:r>
              <a:endParaRPr b="0" lang="en-US" sz="4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05800" y="4174560"/>
              <a:ext cx="4489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endParaRPr b="0" lang="en-US" sz="3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79280" y="4114440"/>
              <a:ext cx="89388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600" spc="-1" strike="noStrike">
                  <a:solidFill>
                    <a:srgbClr val="660066"/>
                  </a:solidFill>
                  <a:latin typeface="Arial"/>
                </a:rPr>
                <a:t>pp</a:t>
              </a:r>
              <a:endParaRPr b="0" lang="en-US" sz="4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5634360" y="5682960"/>
            <a:ext cx="9262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660066"/>
                </a:solidFill>
                <a:latin typeface="Arial"/>
              </a:rPr>
              <a:t>P</a:t>
            </a:r>
            <a:r>
              <a:rPr b="1" i="1" lang="en-US" sz="4600" spc="-1" strike="noStrike">
                <a:solidFill>
                  <a:srgbClr val="660066"/>
                </a:solidFill>
                <a:latin typeface="Arial"/>
              </a:rPr>
              <a:t>p</a:t>
            </a:r>
            <a:endParaRPr b="0" lang="en-US" sz="4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83200" y="495288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D5FC-B73B-47E8-883C-99DCED0A6DD5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2211480" y="5870520"/>
            <a:ext cx="4230720" cy="835200"/>
            <a:chOff x="2211480" y="5870520"/>
            <a:chExt cx="4230720" cy="835200"/>
          </a:xfrm>
        </p:grpSpPr>
        <p:pic>
          <p:nvPicPr>
            <p:cNvPr id="189" name="" descr=""/>
            <p:cNvPicPr/>
            <p:nvPr/>
          </p:nvPicPr>
          <p:blipFill>
            <a:blip r:embed="rId1"/>
            <a:srcRect l="67543" t="0" r="15927" b="82803"/>
            <a:stretch/>
          </p:blipFill>
          <p:spPr>
            <a:xfrm>
              <a:off x="5686560" y="5870520"/>
              <a:ext cx="755640" cy="83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2"/>
            <a:srcRect l="47789" t="0" r="35681" b="82803"/>
            <a:stretch/>
          </p:blipFill>
          <p:spPr>
            <a:xfrm>
              <a:off x="2211480" y="5870520"/>
              <a:ext cx="753840" cy="83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3"/>
            <a:srcRect l="47789" t="0" r="35681" b="82803"/>
            <a:stretch/>
          </p:blipFill>
          <p:spPr>
            <a:xfrm>
              <a:off x="3049560" y="5870520"/>
              <a:ext cx="754200" cy="83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4"/>
            <a:srcRect l="47789" t="0" r="35681" b="82803"/>
            <a:stretch/>
          </p:blipFill>
          <p:spPr>
            <a:xfrm>
              <a:off x="3887640" y="5870520"/>
              <a:ext cx="754200" cy="835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"/>
          <p:cNvGrpSpPr/>
          <p:nvPr/>
        </p:nvGrpSpPr>
        <p:grpSpPr>
          <a:xfrm>
            <a:off x="2979720" y="3735360"/>
            <a:ext cx="3260880" cy="835200"/>
            <a:chOff x="2979720" y="3735360"/>
            <a:chExt cx="3260880" cy="835200"/>
          </a:xfrm>
        </p:grpSpPr>
        <p:pic>
          <p:nvPicPr>
            <p:cNvPr id="194" name="" descr=""/>
            <p:cNvPicPr/>
            <p:nvPr/>
          </p:nvPicPr>
          <p:blipFill>
            <a:blip r:embed="rId5"/>
            <a:srcRect l="47789" t="0" r="35681" b="82803"/>
            <a:stretch/>
          </p:blipFill>
          <p:spPr>
            <a:xfrm>
              <a:off x="2979720" y="3735360"/>
              <a:ext cx="754200" cy="83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6"/>
            <a:srcRect l="47789" t="0" r="35681" b="82803"/>
            <a:stretch/>
          </p:blipFill>
          <p:spPr>
            <a:xfrm>
              <a:off x="3809880" y="3735360"/>
              <a:ext cx="754200" cy="83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7"/>
            <a:srcRect l="47789" t="0" r="35681" b="82803"/>
            <a:stretch/>
          </p:blipFill>
          <p:spPr>
            <a:xfrm>
              <a:off x="4648320" y="3735360"/>
              <a:ext cx="753840" cy="83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8"/>
            <a:srcRect l="47789" t="0" r="35681" b="82803"/>
            <a:stretch/>
          </p:blipFill>
          <p:spPr>
            <a:xfrm>
              <a:off x="5486400" y="3735360"/>
              <a:ext cx="75420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8" name=""/>
          <p:cNvSpPr/>
          <p:nvPr/>
        </p:nvSpPr>
        <p:spPr>
          <a:xfrm>
            <a:off x="0" y="6324480"/>
            <a:ext cx="19051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9"/>
          <a:srcRect l="67543" t="0" r="16570" b="82803"/>
          <a:stretch/>
        </p:blipFill>
        <p:spPr>
          <a:xfrm>
            <a:off x="5684760" y="1905120"/>
            <a:ext cx="727200" cy="8348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0"/>
          <a:srcRect l="47789" t="0" r="35681" b="82803"/>
          <a:stretch/>
        </p:blipFill>
        <p:spPr>
          <a:xfrm>
            <a:off x="2725560" y="1905120"/>
            <a:ext cx="754200" cy="8348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ooking closer at Mendel’s work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56800" y="1369800"/>
            <a:ext cx="266328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true-breeding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purple-flower pea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04920" y="1369800"/>
            <a:ext cx="252324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ue-breeding 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ite-flower pea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79760" y="1512360"/>
            <a:ext cx="40176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796880" y="3504960"/>
            <a:ext cx="1154520" cy="41364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100%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52240" y="3122280"/>
            <a:ext cx="266328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100%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purple-flower pea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04920" y="5313240"/>
            <a:ext cx="252324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ヒラギノ角ゴ Pro W3"/>
              </a:rPr>
              <a:t>_x0008__x0008_</a:t>
            </a: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25%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ite-flower pea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055240" y="5313240"/>
            <a:ext cx="266328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75%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purple-flower pea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95680" y="2057400"/>
            <a:ext cx="228600" cy="838080"/>
          </a:xfrm>
          <a:prstGeom prst="downArrow">
            <a:avLst>
              <a:gd name="adj1" fmla="val 50000"/>
              <a:gd name="adj2" fmla="val 91654"/>
            </a:avLst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95680" y="480060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014320" y="5378040"/>
            <a:ext cx="730800" cy="41364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3:1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56880" y="2345760"/>
            <a:ext cx="68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36600" y="2345760"/>
            <a:ext cx="64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63600" y="417456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87640" y="417456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25720" y="417456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564160" y="417456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29680" y="4648320"/>
            <a:ext cx="1980000" cy="609480"/>
            <a:chOff x="229680" y="4648320"/>
            <a:chExt cx="1980000" cy="609480"/>
          </a:xfrm>
        </p:grpSpPr>
        <p:sp>
          <p:nvSpPr>
            <p:cNvPr id="219" name=""/>
            <p:cNvSpPr/>
            <p:nvPr/>
          </p:nvSpPr>
          <p:spPr>
            <a:xfrm>
              <a:off x="304920" y="4648320"/>
              <a:ext cx="1904760" cy="609480"/>
            </a:xfrm>
            <a:prstGeom prst="rightArrow">
              <a:avLst>
                <a:gd name="adj1" fmla="val 50000"/>
                <a:gd name="adj2" fmla="val 78131"/>
              </a:avLst>
            </a:prstGeom>
            <a:solidFill>
              <a:srgbClr val="ffcc18"/>
            </a:solidFill>
            <a:ln w="9360">
              <a:solidFill>
                <a:srgbClr val="ffcc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9680" y="4739400"/>
              <a:ext cx="1904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elf-pollinate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843880" y="609516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40280" y="609516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78160" y="609516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363760" y="609516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44080" y="2666160"/>
            <a:ext cx="1593360" cy="4291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phenotyp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796880" y="3504960"/>
            <a:ext cx="1154520" cy="41364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100%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52240" y="3122280"/>
            <a:ext cx="266328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100%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purple-flower pea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840" y="3268440"/>
            <a:ext cx="1482120" cy="10105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genera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(hybrids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04920" y="5313240"/>
            <a:ext cx="252324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ヒラギノ角ゴ Pro W3"/>
              </a:rPr>
              <a:t>_x0008__x0008_</a:t>
            </a: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25%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ite-flower pea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840" y="5767200"/>
            <a:ext cx="1482120" cy="73404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genera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055240" y="5313240"/>
            <a:ext cx="266328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75%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purple-flower pea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014320" y="5378040"/>
            <a:ext cx="730800" cy="41364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3:1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0920" y="1644120"/>
            <a:ext cx="435240" cy="41364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6657-E487-42A8-87FC-F23A2B1CADC9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1722600" y="3645000"/>
          <a:ext cx="2895480" cy="2527200"/>
        </p:xfrm>
        <a:graphic>
          <a:graphicData uri="http://schemas.openxmlformats.org/drawingml/2006/table">
            <a:tbl>
              <a:tblPr/>
              <a:tblGrid>
                <a:gridCol w="1447560"/>
                <a:gridCol w="1447920"/>
              </a:tblGrid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3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rcRect l="47789" t="0" r="35681" b="82803"/>
          <a:stretch/>
        </p:blipFill>
        <p:spPr>
          <a:xfrm>
            <a:off x="2057400" y="3962520"/>
            <a:ext cx="754200" cy="834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rcRect l="47789" t="0" r="35681" b="82803"/>
          <a:stretch/>
        </p:blipFill>
        <p:spPr>
          <a:xfrm>
            <a:off x="3505320" y="3962520"/>
            <a:ext cx="753840" cy="8348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rcRect l="47789" t="0" r="35681" b="82803"/>
          <a:stretch/>
        </p:blipFill>
        <p:spPr>
          <a:xfrm>
            <a:off x="2057400" y="5257800"/>
            <a:ext cx="754200" cy="8352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rcRect l="67543" t="0" r="16570" b="82803"/>
          <a:stretch/>
        </p:blipFill>
        <p:spPr>
          <a:xfrm>
            <a:off x="3505320" y="5257800"/>
            <a:ext cx="726840" cy="835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rcRect l="47789" t="0" r="35681" b="82803"/>
          <a:stretch/>
        </p:blipFill>
        <p:spPr>
          <a:xfrm>
            <a:off x="3330720" y="1527120"/>
            <a:ext cx="753840" cy="8352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6"/>
          <a:srcRect l="47789" t="0" r="35681" b="82803"/>
          <a:stretch/>
        </p:blipFill>
        <p:spPr>
          <a:xfrm>
            <a:off x="2035080" y="1527120"/>
            <a:ext cx="754200" cy="8352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unnett squar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026800" y="137160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  x   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181240" y="2696040"/>
            <a:ext cx="1889280" cy="889200"/>
            <a:chOff x="2181240" y="2696040"/>
            <a:chExt cx="1889280" cy="889200"/>
          </a:xfrm>
        </p:grpSpPr>
        <p:sp>
          <p:nvSpPr>
            <p:cNvPr id="245" name=""/>
            <p:cNvSpPr/>
            <p:nvPr/>
          </p:nvSpPr>
          <p:spPr>
            <a:xfrm>
              <a:off x="2257560" y="3034440"/>
              <a:ext cx="435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38880" y="303444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81240" y="2696040"/>
              <a:ext cx="188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6301"/>
                  </a:solidFill>
                  <a:latin typeface="Arial"/>
                </a:rPr>
                <a:t>male / sperm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70320" y="4010040"/>
            <a:ext cx="802800" cy="1951560"/>
            <a:chOff x="670320" y="4010040"/>
            <a:chExt cx="802800" cy="1951560"/>
          </a:xfrm>
        </p:grpSpPr>
        <p:sp>
          <p:nvSpPr>
            <p:cNvPr id="249" name=""/>
            <p:cNvSpPr/>
            <p:nvPr/>
          </p:nvSpPr>
          <p:spPr>
            <a:xfrm>
              <a:off x="1037880" y="4101480"/>
              <a:ext cx="435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038240" y="525708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6200000">
              <a:off x="-90720" y="4771080"/>
              <a:ext cx="1951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6301"/>
                  </a:solidFill>
                  <a:latin typeface="Arial"/>
                </a:rPr>
                <a:t>female / eggs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094840" y="4037760"/>
            <a:ext cx="68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04920" y="525708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63280" y="5257080"/>
            <a:ext cx="64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52840" y="403776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5335200" y="2286000"/>
            <a:ext cx="1438560" cy="835200"/>
            <a:chOff x="5335200" y="2286000"/>
            <a:chExt cx="1438560" cy="835200"/>
          </a:xfrm>
        </p:grpSpPr>
        <p:sp>
          <p:nvSpPr>
            <p:cNvPr id="257" name=""/>
            <p:cNvSpPr/>
            <p:nvPr/>
          </p:nvSpPr>
          <p:spPr>
            <a:xfrm>
              <a:off x="5335200" y="2428200"/>
              <a:ext cx="689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258" name="" descr=""/>
            <p:cNvPicPr/>
            <p:nvPr/>
          </p:nvPicPr>
          <p:blipFill>
            <a:blip r:embed="rId7"/>
            <a:srcRect l="47789" t="0" r="35681" b="82803"/>
            <a:stretch/>
          </p:blipFill>
          <p:spPr>
            <a:xfrm>
              <a:off x="6019920" y="2286000"/>
              <a:ext cx="753840" cy="835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9" name=""/>
          <p:cNvGrpSpPr/>
          <p:nvPr/>
        </p:nvGrpSpPr>
        <p:grpSpPr>
          <a:xfrm>
            <a:off x="5344920" y="3124080"/>
            <a:ext cx="1428840" cy="835200"/>
            <a:chOff x="5344920" y="3124080"/>
            <a:chExt cx="1428840" cy="835200"/>
          </a:xfrm>
        </p:grpSpPr>
        <p:sp>
          <p:nvSpPr>
            <p:cNvPr id="260" name=""/>
            <p:cNvSpPr/>
            <p:nvPr/>
          </p:nvSpPr>
          <p:spPr>
            <a:xfrm>
              <a:off x="5344920" y="326628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261" name="" descr=""/>
            <p:cNvPicPr/>
            <p:nvPr/>
          </p:nvPicPr>
          <p:blipFill>
            <a:blip r:embed="rId8"/>
            <a:srcRect l="47789" t="0" r="35681" b="82803"/>
            <a:stretch/>
          </p:blipFill>
          <p:spPr>
            <a:xfrm>
              <a:off x="6019920" y="3124080"/>
              <a:ext cx="753840" cy="835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2" name=""/>
          <p:cNvGrpSpPr/>
          <p:nvPr/>
        </p:nvGrpSpPr>
        <p:grpSpPr>
          <a:xfrm>
            <a:off x="5344920" y="3962520"/>
            <a:ext cx="1428840" cy="834840"/>
            <a:chOff x="5344920" y="3962520"/>
            <a:chExt cx="1428840" cy="834840"/>
          </a:xfrm>
        </p:grpSpPr>
        <p:sp>
          <p:nvSpPr>
            <p:cNvPr id="263" name=""/>
            <p:cNvSpPr/>
            <p:nvPr/>
          </p:nvSpPr>
          <p:spPr>
            <a:xfrm>
              <a:off x="5344920" y="41047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264" name="" descr=""/>
            <p:cNvPicPr/>
            <p:nvPr/>
          </p:nvPicPr>
          <p:blipFill>
            <a:blip r:embed="rId9"/>
            <a:srcRect l="47789" t="0" r="35681" b="82803"/>
            <a:stretch/>
          </p:blipFill>
          <p:spPr>
            <a:xfrm>
              <a:off x="6019920" y="3962520"/>
              <a:ext cx="753840" cy="834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5" name=""/>
          <p:cNvGrpSpPr/>
          <p:nvPr/>
        </p:nvGrpSpPr>
        <p:grpSpPr>
          <a:xfrm>
            <a:off x="5355720" y="4800600"/>
            <a:ext cx="1419840" cy="835200"/>
            <a:chOff x="5355720" y="4800600"/>
            <a:chExt cx="1419840" cy="835200"/>
          </a:xfrm>
        </p:grpSpPr>
        <p:sp>
          <p:nvSpPr>
            <p:cNvPr id="266" name=""/>
            <p:cNvSpPr/>
            <p:nvPr/>
          </p:nvSpPr>
          <p:spPr>
            <a:xfrm>
              <a:off x="5355720" y="5022000"/>
              <a:ext cx="646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267" name="" descr=""/>
            <p:cNvPicPr/>
            <p:nvPr/>
          </p:nvPicPr>
          <p:blipFill>
            <a:blip r:embed="rId10"/>
            <a:srcRect l="67543" t="0" r="15927" b="82803"/>
            <a:stretch/>
          </p:blipFill>
          <p:spPr>
            <a:xfrm>
              <a:off x="6019920" y="4800600"/>
              <a:ext cx="755640" cy="835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8" name=""/>
          <p:cNvGrpSpPr/>
          <p:nvPr/>
        </p:nvGrpSpPr>
        <p:grpSpPr>
          <a:xfrm>
            <a:off x="8001000" y="2362320"/>
            <a:ext cx="920520" cy="2438280"/>
            <a:chOff x="8001000" y="2362320"/>
            <a:chExt cx="920520" cy="2438280"/>
          </a:xfrm>
        </p:grpSpPr>
        <p:sp>
          <p:nvSpPr>
            <p:cNvPr id="269" name=""/>
            <p:cNvSpPr/>
            <p:nvPr/>
          </p:nvSpPr>
          <p:spPr>
            <a:xfrm>
              <a:off x="8077680" y="3199680"/>
              <a:ext cx="843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75%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001000" y="2362320"/>
              <a:ext cx="0" cy="243828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8001000" y="4876920"/>
            <a:ext cx="920520" cy="761760"/>
            <a:chOff x="8001000" y="4876920"/>
            <a:chExt cx="920520" cy="761760"/>
          </a:xfrm>
        </p:grpSpPr>
        <p:sp>
          <p:nvSpPr>
            <p:cNvPr id="272" name=""/>
            <p:cNvSpPr/>
            <p:nvPr/>
          </p:nvSpPr>
          <p:spPr>
            <a:xfrm>
              <a:off x="8077680" y="4952160"/>
              <a:ext cx="843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5%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001000" y="4876920"/>
              <a:ext cx="0" cy="761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8178480" y="5820840"/>
            <a:ext cx="659160" cy="48996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3:1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7010280" y="2362320"/>
            <a:ext cx="920520" cy="761760"/>
            <a:chOff x="7010280" y="2362320"/>
            <a:chExt cx="920520" cy="761760"/>
          </a:xfrm>
        </p:grpSpPr>
        <p:sp>
          <p:nvSpPr>
            <p:cNvPr id="276" name=""/>
            <p:cNvSpPr/>
            <p:nvPr/>
          </p:nvSpPr>
          <p:spPr>
            <a:xfrm>
              <a:off x="7086960" y="2514240"/>
              <a:ext cx="843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25%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10280" y="2362320"/>
              <a:ext cx="0" cy="76176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7010280" y="3200400"/>
            <a:ext cx="920520" cy="1600200"/>
            <a:chOff x="7010280" y="3200400"/>
            <a:chExt cx="920520" cy="1600200"/>
          </a:xfrm>
        </p:grpSpPr>
        <p:sp>
          <p:nvSpPr>
            <p:cNvPr id="279" name=""/>
            <p:cNvSpPr/>
            <p:nvPr/>
          </p:nvSpPr>
          <p:spPr>
            <a:xfrm>
              <a:off x="7010280" y="3200400"/>
              <a:ext cx="0" cy="160020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86960" y="3657240"/>
              <a:ext cx="843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50%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7010280" y="4876920"/>
            <a:ext cx="920520" cy="761760"/>
            <a:chOff x="7010280" y="4876920"/>
            <a:chExt cx="920520" cy="761760"/>
          </a:xfrm>
        </p:grpSpPr>
        <p:sp>
          <p:nvSpPr>
            <p:cNvPr id="282" name=""/>
            <p:cNvSpPr/>
            <p:nvPr/>
          </p:nvSpPr>
          <p:spPr>
            <a:xfrm>
              <a:off x="7086960" y="4952160"/>
              <a:ext cx="843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5%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010280" y="4876920"/>
              <a:ext cx="0" cy="761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6916320" y="5820840"/>
            <a:ext cx="953280" cy="48996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1:2:1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554520" y="1720440"/>
            <a:ext cx="119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301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301"/>
                </a:solidFill>
                <a:latin typeface="Arial"/>
              </a:rPr>
              <a:t>genotyp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805160" y="1720440"/>
            <a:ext cx="13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301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301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0BE3-2C56-44A7-9F32-38C780870D95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enotype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Homozygous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= </a:t>
            </a: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same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alleles =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Heterozygous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= </a:t>
            </a: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different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alleles =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660066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1981080" y="2590920"/>
            <a:ext cx="4761000" cy="41018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394560" y="2971440"/>
            <a:ext cx="1591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homozygous</a:t>
            </a:r>
            <a:br>
              <a:rPr sz="1800"/>
            </a:b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dominan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94560" y="5714640"/>
            <a:ext cx="1591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homozygous</a:t>
            </a:r>
            <a:br>
              <a:rPr sz="1800"/>
            </a:b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recessiv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707B-8E11-4B49-BAFC-25A986392B38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066680" y="2971800"/>
            <a:ext cx="7467840" cy="1981080"/>
          </a:xfrm>
          <a:prstGeom prst="rect">
            <a:avLst/>
          </a:prstGeom>
          <a:solidFill>
            <a:srgbClr val="b7c1eb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enotype vs. genotyp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2 organisms can have the same phenotype but have different genotyp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1523880" y="3135240"/>
            <a:ext cx="6816240" cy="747720"/>
            <a:chOff x="1523880" y="3135240"/>
            <a:chExt cx="6816240" cy="747720"/>
          </a:xfrm>
        </p:grpSpPr>
        <p:sp>
          <p:nvSpPr>
            <p:cNvPr id="298" name=""/>
            <p:cNvSpPr/>
            <p:nvPr/>
          </p:nvSpPr>
          <p:spPr>
            <a:xfrm>
              <a:off x="3985560" y="3190320"/>
              <a:ext cx="689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299" name="" descr=""/>
            <p:cNvPicPr/>
            <p:nvPr/>
          </p:nvPicPr>
          <p:blipFill>
            <a:blip r:embed="rId1"/>
            <a:srcRect l="47789" t="1802" r="35681" b="82803"/>
            <a:stretch/>
          </p:blipFill>
          <p:spPr>
            <a:xfrm>
              <a:off x="1523880" y="3135240"/>
              <a:ext cx="754200" cy="7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4824720" y="3235680"/>
              <a:ext cx="351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</a:rPr>
                <a:t>homozygous dominant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16040" y="3190320"/>
              <a:ext cx="1344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440044"/>
                  </a:solidFill>
                  <a:latin typeface="Arial"/>
                </a:rPr>
                <a:t>purple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1523880" y="4052880"/>
            <a:ext cx="5461920" cy="747720"/>
            <a:chOff x="1523880" y="4052880"/>
            <a:chExt cx="5461920" cy="747720"/>
          </a:xfrm>
        </p:grpSpPr>
        <p:sp>
          <p:nvSpPr>
            <p:cNvPr id="303" name=""/>
            <p:cNvSpPr/>
            <p:nvPr/>
          </p:nvSpPr>
          <p:spPr>
            <a:xfrm>
              <a:off x="3985920" y="41076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304" name="" descr=""/>
            <p:cNvPicPr/>
            <p:nvPr/>
          </p:nvPicPr>
          <p:blipFill>
            <a:blip r:embed="rId2"/>
            <a:srcRect l="47789" t="1802" r="35681" b="82803"/>
            <a:stretch/>
          </p:blipFill>
          <p:spPr>
            <a:xfrm>
              <a:off x="1523880" y="4052880"/>
              <a:ext cx="754200" cy="7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4825440" y="4153320"/>
              <a:ext cx="21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</a:rPr>
                <a:t>heterozygou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523960" y="4107600"/>
              <a:ext cx="1344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440044"/>
                  </a:solidFill>
                  <a:latin typeface="Arial"/>
                </a:rPr>
                <a:t>purple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F980-055C-4579-AD18-6935A97ED023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ominant phenotyp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t is not possible to determine the genotype of an organism with a dominant phenotype by looking at it.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rcRect l="40655" t="6003" r="40655" b="72006"/>
          <a:stretch/>
        </p:blipFill>
        <p:spPr>
          <a:xfrm>
            <a:off x="1944720" y="3429000"/>
            <a:ext cx="1652400" cy="17334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4076280" y="3412440"/>
            <a:ext cx="92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85280" y="4342680"/>
            <a:ext cx="90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6553080" y="3809880"/>
            <a:ext cx="2133720" cy="2971800"/>
            <a:chOff x="6553080" y="3809880"/>
            <a:chExt cx="2133720" cy="2971800"/>
          </a:xfrm>
        </p:grpSpPr>
        <p:pic>
          <p:nvPicPr>
            <p:cNvPr id="314" name="" descr=""/>
            <p:cNvPicPr/>
            <p:nvPr/>
          </p:nvPicPr>
          <p:blipFill>
            <a:blip r:embed="rId2"/>
            <a:stretch/>
          </p:blipFill>
          <p:spPr>
            <a:xfrm>
              <a:off x="7412040" y="5486400"/>
              <a:ext cx="12747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6553080" y="3809880"/>
              <a:ext cx="2133720" cy="1219320"/>
            </a:xfrm>
            <a:prstGeom prst="wedgeEllipseCallout">
              <a:avLst>
                <a:gd name="adj1" fmla="val 4162"/>
                <a:gd name="adj2" fmla="val 102861"/>
              </a:avLst>
            </a:prstGeom>
            <a:solidFill>
              <a:srgbClr val="ffea18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So how</a:t>
              </a:r>
              <a:br>
                <a:rPr sz="1600"/>
              </a:b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do you figure out</a:t>
              </a:r>
              <a:br>
                <a:rPr sz="1600"/>
              </a:b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the genotype?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A4AA-148E-4D2E-9A94-6D0D2433733F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est cros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ross-breed the dominant phenotype —  unknown genotype — with a homozygous recessive (</a:t>
            </a:r>
            <a:r>
              <a:rPr b="1" i="1" lang="en-US" sz="3000" spc="-1" strike="noStrike">
                <a:solidFill>
                  <a:srgbClr val="660066"/>
                </a:solidFill>
                <a:latin typeface="Arial"/>
              </a:rPr>
              <a:t>p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) to determine the identity of the unknown allel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40655" t="6003" r="40655" b="72006"/>
          <a:stretch/>
        </p:blipFill>
        <p:spPr>
          <a:xfrm>
            <a:off x="2743200" y="4038480"/>
            <a:ext cx="1162080" cy="121932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41728" t="68403" r="41728" b="9600"/>
          <a:stretch/>
        </p:blipFill>
        <p:spPr>
          <a:xfrm>
            <a:off x="4800600" y="3962520"/>
            <a:ext cx="1093680" cy="129528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4192560" y="426636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030640" y="5180760"/>
            <a:ext cx="708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660066"/>
                </a:solidFill>
                <a:latin typeface="Arial"/>
              </a:rPr>
              <a:t>pp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363760" y="5104800"/>
            <a:ext cx="2001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is it</a:t>
            </a:r>
            <a:br>
              <a:rPr sz="3000"/>
            </a:b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P or P</a:t>
            </a:r>
            <a:r>
              <a:rPr b="1" i="1" lang="en-US" sz="3000" spc="-1" strike="noStrike">
                <a:solidFill>
                  <a:srgbClr val="660066"/>
                </a:solidFill>
                <a:latin typeface="Arial"/>
              </a:rPr>
              <a:t>p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FEAC-F671-451B-A7B1-086F278D1E2B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"/>
          <p:cNvGrpSpPr/>
          <p:nvPr/>
        </p:nvGrpSpPr>
        <p:grpSpPr>
          <a:xfrm>
            <a:off x="1192320" y="1289160"/>
            <a:ext cx="2770200" cy="1225440"/>
            <a:chOff x="1192320" y="1289160"/>
            <a:chExt cx="2770200" cy="1225440"/>
          </a:xfrm>
        </p:grpSpPr>
        <p:pic>
          <p:nvPicPr>
            <p:cNvPr id="326" name="" descr=""/>
            <p:cNvPicPr/>
            <p:nvPr/>
          </p:nvPicPr>
          <p:blipFill>
            <a:blip r:embed="rId1"/>
            <a:srcRect l="40655" t="6003" r="40655" b="72006"/>
            <a:stretch/>
          </p:blipFill>
          <p:spPr>
            <a:xfrm>
              <a:off x="1192320" y="1295280"/>
              <a:ext cx="116208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" descr=""/>
            <p:cNvPicPr/>
            <p:nvPr/>
          </p:nvPicPr>
          <p:blipFill>
            <a:blip r:embed="rId2"/>
            <a:srcRect l="41728" t="69606" r="41728" b="9600"/>
            <a:stretch/>
          </p:blipFill>
          <p:spPr>
            <a:xfrm>
              <a:off x="2868480" y="1289160"/>
              <a:ext cx="10940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2412720" y="1523160"/>
              <a:ext cx="39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1449000" y="2208960"/>
            <a:ext cx="68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69720" y="2208960"/>
            <a:ext cx="64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3"/>
          <a:srcRect l="40655" t="6003" r="40655" b="72006"/>
          <a:stretch/>
        </p:blipFill>
        <p:spPr>
          <a:xfrm>
            <a:off x="1295280" y="3886200"/>
            <a:ext cx="943200" cy="99072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4"/>
          <a:srcRect l="40655" t="6003" r="40655" b="72006"/>
          <a:stretch/>
        </p:blipFill>
        <p:spPr>
          <a:xfrm>
            <a:off x="2743200" y="3886200"/>
            <a:ext cx="942840" cy="99072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5"/>
          <a:srcRect l="40655" t="6003" r="40655" b="72006"/>
          <a:stretch/>
        </p:blipFill>
        <p:spPr>
          <a:xfrm>
            <a:off x="2743200" y="5105520"/>
            <a:ext cx="942840" cy="99036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6"/>
          <a:srcRect l="40655" t="6003" r="40655" b="72006"/>
          <a:stretch/>
        </p:blipFill>
        <p:spPr>
          <a:xfrm>
            <a:off x="1295280" y="5105520"/>
            <a:ext cx="943200" cy="990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7"/>
          <a:srcRect l="40655" t="6003" r="40655" b="72006"/>
          <a:stretch/>
        </p:blipFill>
        <p:spPr>
          <a:xfrm>
            <a:off x="5715000" y="3886200"/>
            <a:ext cx="942840" cy="99072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8"/>
          <a:srcRect l="40655" t="6003" r="40655" b="72006"/>
          <a:stretch/>
        </p:blipFill>
        <p:spPr>
          <a:xfrm>
            <a:off x="7162920" y="3886200"/>
            <a:ext cx="942840" cy="99072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9"/>
          <a:srcRect l="41728" t="68403" r="41728" b="9600"/>
          <a:stretch/>
        </p:blipFill>
        <p:spPr>
          <a:xfrm>
            <a:off x="5791320" y="5105520"/>
            <a:ext cx="836640" cy="99036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10"/>
          <a:srcRect l="41728" t="68403" r="41728" b="9600"/>
          <a:stretch/>
        </p:blipFill>
        <p:spPr>
          <a:xfrm>
            <a:off x="7238880" y="5105520"/>
            <a:ext cx="836640" cy="99036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est cros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1100160" y="3657600"/>
          <a:ext cx="2895480" cy="2527200"/>
        </p:xfrm>
        <a:graphic>
          <a:graphicData uri="http://schemas.openxmlformats.org/drawingml/2006/table">
            <a:tbl>
              <a:tblPr/>
              <a:tblGrid>
                <a:gridCol w="1447560"/>
                <a:gridCol w="1447920"/>
              </a:tblGrid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3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44840" y="310752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016440" y="310752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53760" y="4114080"/>
            <a:ext cx="43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1560" y="5269680"/>
            <a:ext cx="43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482480" y="405072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482480" y="526968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930400" y="526968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930400" y="405072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5519880" y="3657600"/>
          <a:ext cx="2895480" cy="2527200"/>
        </p:xfrm>
        <a:graphic>
          <a:graphicData uri="http://schemas.openxmlformats.org/drawingml/2006/table">
            <a:tbl>
              <a:tblPr/>
              <a:tblGrid>
                <a:gridCol w="1447560"/>
                <a:gridCol w="1447920"/>
              </a:tblGrid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3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"/>
          <p:cNvSpPr/>
          <p:nvPr/>
        </p:nvSpPr>
        <p:spPr>
          <a:xfrm>
            <a:off x="6064200" y="310752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435800" y="310752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073480" y="4114080"/>
            <a:ext cx="43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031000" y="526968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902200" y="405072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913000" y="5269680"/>
            <a:ext cx="64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360560" y="5269680"/>
            <a:ext cx="64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350120" y="405072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5611680" y="1219320"/>
            <a:ext cx="2770200" cy="1295280"/>
            <a:chOff x="5611680" y="1219320"/>
            <a:chExt cx="2770200" cy="1295280"/>
          </a:xfrm>
        </p:grpSpPr>
        <p:pic>
          <p:nvPicPr>
            <p:cNvPr id="359" name="" descr=""/>
            <p:cNvPicPr/>
            <p:nvPr/>
          </p:nvPicPr>
          <p:blipFill>
            <a:blip r:embed="rId11"/>
            <a:srcRect l="40655" t="6003" r="40655" b="72006"/>
            <a:stretch/>
          </p:blipFill>
          <p:spPr>
            <a:xfrm>
              <a:off x="5611680" y="1295280"/>
              <a:ext cx="11620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" descr=""/>
            <p:cNvPicPr/>
            <p:nvPr/>
          </p:nvPicPr>
          <p:blipFill>
            <a:blip r:embed="rId12"/>
            <a:srcRect l="41728" t="68403" r="41728" b="9600"/>
            <a:stretch/>
          </p:blipFill>
          <p:spPr>
            <a:xfrm>
              <a:off x="7288200" y="1219320"/>
              <a:ext cx="10936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6832440" y="1523160"/>
              <a:ext cx="39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5857560" y="220896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44880" y="2208960"/>
            <a:ext cx="64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83240" y="4647600"/>
            <a:ext cx="1154520" cy="5508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100%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69960" y="4419000"/>
            <a:ext cx="1831320" cy="100764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50%:50%</a:t>
            </a:r>
            <a:br>
              <a:rPr sz="3000"/>
            </a:b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1:1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0DBA-B6D4-4EB5-BE47-0FA009B49823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endel’s laws of heredity  (#1)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6477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aw of segregation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when </a:t>
            </a:r>
            <a:r>
              <a:rPr b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gametes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are produced during meiosis, </a:t>
            </a:r>
            <a:r>
              <a:rPr b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homologous chromosomes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separate from each othe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ach allele for a trait is packaged into a separate gamet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81680" y="838080"/>
            <a:ext cx="2049480" cy="1752480"/>
            <a:chOff x="6781680" y="838080"/>
            <a:chExt cx="2049480" cy="1752480"/>
          </a:xfrm>
        </p:grpSpPr>
        <p:grpSp>
          <p:nvGrpSpPr>
            <p:cNvPr id="370" name=""/>
            <p:cNvGrpSpPr/>
            <p:nvPr/>
          </p:nvGrpSpPr>
          <p:grpSpPr>
            <a:xfrm>
              <a:off x="6781680" y="1334880"/>
              <a:ext cx="838080" cy="838080"/>
              <a:chOff x="6781680" y="1334880"/>
              <a:chExt cx="838080" cy="838080"/>
            </a:xfrm>
          </p:grpSpPr>
          <p:sp>
            <p:nvSpPr>
              <p:cNvPr id="371" name=""/>
              <p:cNvSpPr/>
              <p:nvPr/>
            </p:nvSpPr>
            <p:spPr>
              <a:xfrm>
                <a:off x="6781680" y="133488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859080" y="1486440"/>
                <a:ext cx="6897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P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8221680" y="838080"/>
              <a:ext cx="609480" cy="609480"/>
              <a:chOff x="8221680" y="838080"/>
              <a:chExt cx="609480" cy="609480"/>
            </a:xfrm>
          </p:grpSpPr>
          <p:sp>
            <p:nvSpPr>
              <p:cNvPr id="374" name=""/>
              <p:cNvSpPr/>
              <p:nvPr/>
            </p:nvSpPr>
            <p:spPr>
              <a:xfrm>
                <a:off x="8221680" y="838080"/>
                <a:ext cx="609480" cy="6094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308800" y="867240"/>
                <a:ext cx="435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8221680" y="1981080"/>
              <a:ext cx="609480" cy="609480"/>
              <a:chOff x="8221680" y="1981080"/>
              <a:chExt cx="609480" cy="609480"/>
            </a:xfrm>
          </p:grpSpPr>
          <p:sp>
            <p:nvSpPr>
              <p:cNvPr id="377" name=""/>
              <p:cNvSpPr/>
              <p:nvPr/>
            </p:nvSpPr>
            <p:spPr>
              <a:xfrm>
                <a:off x="8221680" y="1981080"/>
                <a:ext cx="609480" cy="6094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308800" y="2010240"/>
                <a:ext cx="435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 rot="1800000">
              <a:off x="7611480" y="1904760"/>
              <a:ext cx="609840" cy="152280"/>
            </a:xfrm>
            <a:prstGeom prst="rightArrow">
              <a:avLst>
                <a:gd name="adj1" fmla="val 50000"/>
                <a:gd name="adj2" fmla="val 100118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 rot="19800000">
              <a:off x="7611480" y="1371240"/>
              <a:ext cx="609840" cy="152640"/>
            </a:xfrm>
            <a:prstGeom prst="rightArrow">
              <a:avLst>
                <a:gd name="adj1" fmla="val 50000"/>
                <a:gd name="adj2" fmla="val 99882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6781680" y="2781360"/>
            <a:ext cx="2049480" cy="1752480"/>
            <a:chOff x="6781680" y="2781360"/>
            <a:chExt cx="2049480" cy="1752480"/>
          </a:xfrm>
        </p:grpSpPr>
        <p:grpSp>
          <p:nvGrpSpPr>
            <p:cNvPr id="382" name=""/>
            <p:cNvGrpSpPr/>
            <p:nvPr/>
          </p:nvGrpSpPr>
          <p:grpSpPr>
            <a:xfrm>
              <a:off x="6781680" y="3278160"/>
              <a:ext cx="838080" cy="838080"/>
              <a:chOff x="6781680" y="3278160"/>
              <a:chExt cx="838080" cy="838080"/>
            </a:xfrm>
          </p:grpSpPr>
          <p:sp>
            <p:nvSpPr>
              <p:cNvPr id="383" name=""/>
              <p:cNvSpPr/>
              <p:nvPr/>
            </p:nvSpPr>
            <p:spPr>
              <a:xfrm>
                <a:off x="6781680" y="3278160"/>
                <a:ext cx="838080" cy="838080"/>
              </a:xfrm>
              <a:prstGeom prst="ellipse">
                <a:avLst/>
              </a:prstGeom>
              <a:solidFill>
                <a:srgbClr val="ba64cc"/>
              </a:solidFill>
              <a:ln w="9360">
                <a:solidFill>
                  <a:srgbClr val="ba64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78160" y="3421800"/>
                <a:ext cx="6469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p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8221680" y="2781360"/>
              <a:ext cx="609480" cy="609480"/>
              <a:chOff x="8221680" y="2781360"/>
              <a:chExt cx="609480" cy="609480"/>
            </a:xfrm>
          </p:grpSpPr>
          <p:sp>
            <p:nvSpPr>
              <p:cNvPr id="386" name=""/>
              <p:cNvSpPr/>
              <p:nvPr/>
            </p:nvSpPr>
            <p:spPr>
              <a:xfrm>
                <a:off x="8221680" y="2781360"/>
                <a:ext cx="609480" cy="609480"/>
              </a:xfrm>
              <a:prstGeom prst="ellipse">
                <a:avLst/>
              </a:prstGeom>
              <a:solidFill>
                <a:srgbClr val="ba64cc"/>
              </a:solidFill>
              <a:ln w="9360">
                <a:solidFill>
                  <a:srgbClr val="ba64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8318520" y="2810520"/>
                <a:ext cx="414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8221680" y="3924360"/>
              <a:ext cx="609480" cy="609480"/>
              <a:chOff x="8221680" y="3924360"/>
              <a:chExt cx="609480" cy="609480"/>
            </a:xfrm>
          </p:grpSpPr>
          <p:sp>
            <p:nvSpPr>
              <p:cNvPr id="389" name=""/>
              <p:cNvSpPr/>
              <p:nvPr/>
            </p:nvSpPr>
            <p:spPr>
              <a:xfrm>
                <a:off x="8221680" y="3924360"/>
                <a:ext cx="609480" cy="609480"/>
              </a:xfrm>
              <a:prstGeom prst="ellipse">
                <a:avLst/>
              </a:prstGeom>
              <a:solidFill>
                <a:srgbClr val="ba64cc"/>
              </a:solidFill>
              <a:ln w="9360">
                <a:solidFill>
                  <a:srgbClr val="ba64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8318520" y="3953520"/>
                <a:ext cx="414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 rot="1800000">
              <a:off x="7611480" y="3848040"/>
              <a:ext cx="609840" cy="152280"/>
            </a:xfrm>
            <a:prstGeom prst="rightArrow">
              <a:avLst>
                <a:gd name="adj1" fmla="val 50000"/>
                <a:gd name="adj2" fmla="val 100118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 rot="19800000">
              <a:off x="7611480" y="3314520"/>
              <a:ext cx="609840" cy="152640"/>
            </a:xfrm>
            <a:prstGeom prst="rightArrow">
              <a:avLst>
                <a:gd name="adj1" fmla="val 50000"/>
                <a:gd name="adj2" fmla="val 99882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6781680" y="4724280"/>
            <a:ext cx="2049480" cy="1752480"/>
            <a:chOff x="6781680" y="4724280"/>
            <a:chExt cx="2049480" cy="1752480"/>
          </a:xfrm>
        </p:grpSpPr>
        <p:grpSp>
          <p:nvGrpSpPr>
            <p:cNvPr id="394" name=""/>
            <p:cNvGrpSpPr/>
            <p:nvPr/>
          </p:nvGrpSpPr>
          <p:grpSpPr>
            <a:xfrm>
              <a:off x="6781680" y="5221080"/>
              <a:ext cx="838080" cy="838080"/>
              <a:chOff x="6781680" y="5221080"/>
              <a:chExt cx="838080" cy="838080"/>
            </a:xfrm>
          </p:grpSpPr>
          <p:sp>
            <p:nvSpPr>
              <p:cNvPr id="395" name=""/>
              <p:cNvSpPr/>
              <p:nvPr/>
            </p:nvSpPr>
            <p:spPr>
              <a:xfrm>
                <a:off x="6781680" y="522108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868800" y="5372640"/>
                <a:ext cx="668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8221680" y="4724280"/>
              <a:ext cx="609480" cy="609480"/>
              <a:chOff x="8221680" y="4724280"/>
              <a:chExt cx="609480" cy="609480"/>
            </a:xfrm>
          </p:grpSpPr>
          <p:sp>
            <p:nvSpPr>
              <p:cNvPr id="398" name=""/>
              <p:cNvSpPr/>
              <p:nvPr/>
            </p:nvSpPr>
            <p:spPr>
              <a:xfrm>
                <a:off x="8221680" y="4724280"/>
                <a:ext cx="609480" cy="6094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8308800" y="4753440"/>
                <a:ext cx="435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8221680" y="5867280"/>
              <a:ext cx="609480" cy="609480"/>
              <a:chOff x="8221680" y="5867280"/>
              <a:chExt cx="609480" cy="609480"/>
            </a:xfrm>
          </p:grpSpPr>
          <p:sp>
            <p:nvSpPr>
              <p:cNvPr id="401" name=""/>
              <p:cNvSpPr/>
              <p:nvPr/>
            </p:nvSpPr>
            <p:spPr>
              <a:xfrm>
                <a:off x="8221680" y="5867280"/>
                <a:ext cx="609480" cy="6094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8318520" y="5896440"/>
                <a:ext cx="414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03" name=""/>
            <p:cNvSpPr/>
            <p:nvPr/>
          </p:nvSpPr>
          <p:spPr>
            <a:xfrm rot="1800000">
              <a:off x="7611480" y="5790960"/>
              <a:ext cx="609840" cy="152280"/>
            </a:xfrm>
            <a:prstGeom prst="rightArrow">
              <a:avLst>
                <a:gd name="adj1" fmla="val 50000"/>
                <a:gd name="adj2" fmla="val 100118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 rot="19800000">
              <a:off x="7611480" y="5257440"/>
              <a:ext cx="609840" cy="152640"/>
            </a:xfrm>
            <a:prstGeom prst="rightArrow">
              <a:avLst>
                <a:gd name="adj1" fmla="val 50000"/>
                <a:gd name="adj2" fmla="val 99882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0" y="5105520"/>
            <a:ext cx="2590920" cy="1828800"/>
            <a:chOff x="0" y="5105520"/>
            <a:chExt cx="2590920" cy="1828800"/>
          </a:xfrm>
        </p:grpSpPr>
        <p:sp>
          <p:nvSpPr>
            <p:cNvPr id="406" name=""/>
            <p:cNvSpPr/>
            <p:nvPr/>
          </p:nvSpPr>
          <p:spPr>
            <a:xfrm>
              <a:off x="0" y="5105520"/>
              <a:ext cx="2590920" cy="1828800"/>
            </a:xfrm>
            <a:prstGeom prst="ellipse">
              <a:avLst/>
            </a:prstGeom>
            <a:solidFill>
              <a:srgbClr val="b7c1e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524160" y="5410080"/>
              <a:ext cx="677520" cy="1295640"/>
              <a:chOff x="524160" y="5410080"/>
              <a:chExt cx="677520" cy="1295640"/>
            </a:xfrm>
          </p:grpSpPr>
          <p:grpSp>
            <p:nvGrpSpPr>
              <p:cNvPr id="408" name=""/>
              <p:cNvGrpSpPr/>
              <p:nvPr/>
            </p:nvGrpSpPr>
            <p:grpSpPr>
              <a:xfrm>
                <a:off x="914400" y="5410080"/>
                <a:ext cx="287280" cy="1295640"/>
                <a:chOff x="914400" y="5410080"/>
                <a:chExt cx="287280" cy="1295640"/>
              </a:xfrm>
            </p:grpSpPr>
            <p:sp>
              <p:nvSpPr>
                <p:cNvPr id="409" name=""/>
                <p:cNvSpPr/>
                <p:nvPr/>
              </p:nvSpPr>
              <p:spPr>
                <a:xfrm flipH="1">
                  <a:off x="914400" y="5410080"/>
                  <a:ext cx="277920" cy="1295640"/>
                </a:xfrm>
                <a:custGeom>
                  <a:avLst/>
                  <a:gdLst/>
                  <a:ahLst/>
                  <a:rect l="l" t="t" r="r" b="b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5228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1028880" y="5502240"/>
                  <a:ext cx="83880" cy="93600"/>
                </a:xfrm>
                <a:prstGeom prst="line">
                  <a:avLst/>
                </a:prstGeom>
                <a:ln w="76320">
                  <a:solidFill>
                    <a:srgbClr val="ffea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flipV="1">
                  <a:off x="1090800" y="6532920"/>
                  <a:ext cx="110880" cy="57240"/>
                </a:xfrm>
                <a:prstGeom prst="line">
                  <a:avLst/>
                </a:prstGeom>
                <a:ln w="76320">
                  <a:solidFill>
                    <a:srgbClr val="85dab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524160" y="5410080"/>
                <a:ext cx="286920" cy="1295640"/>
                <a:chOff x="524160" y="5410080"/>
                <a:chExt cx="286920" cy="129564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533520" y="5410080"/>
                  <a:ext cx="277560" cy="1295640"/>
                </a:xfrm>
                <a:custGeom>
                  <a:avLst/>
                  <a:gdLst/>
                  <a:ahLst/>
                  <a:rect l="l" t="t" r="r" b="b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5228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flipH="1">
                  <a:off x="613080" y="5502240"/>
                  <a:ext cx="83520" cy="93600"/>
                </a:xfrm>
                <a:prstGeom prst="line">
                  <a:avLst/>
                </a:prstGeom>
                <a:ln w="76320">
                  <a:solidFill>
                    <a:srgbClr val="ffea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flipH="1" flipV="1">
                  <a:off x="524160" y="6532920"/>
                  <a:ext cx="110520" cy="57240"/>
                </a:xfrm>
                <a:prstGeom prst="line">
                  <a:avLst/>
                </a:prstGeom>
                <a:ln w="76320">
                  <a:solidFill>
                    <a:srgbClr val="85dab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6" name=""/>
            <p:cNvGrpSpPr/>
            <p:nvPr/>
          </p:nvGrpSpPr>
          <p:grpSpPr>
            <a:xfrm>
              <a:off x="1362240" y="5410080"/>
              <a:ext cx="677520" cy="1295640"/>
              <a:chOff x="1362240" y="5410080"/>
              <a:chExt cx="677520" cy="1295640"/>
            </a:xfrm>
          </p:grpSpPr>
          <p:grpSp>
            <p:nvGrpSpPr>
              <p:cNvPr id="417" name=""/>
              <p:cNvGrpSpPr/>
              <p:nvPr/>
            </p:nvGrpSpPr>
            <p:grpSpPr>
              <a:xfrm>
                <a:off x="1752480" y="5410080"/>
                <a:ext cx="287280" cy="1295640"/>
                <a:chOff x="1752480" y="5410080"/>
                <a:chExt cx="287280" cy="1295640"/>
              </a:xfrm>
            </p:grpSpPr>
            <p:sp>
              <p:nvSpPr>
                <p:cNvPr id="418" name=""/>
                <p:cNvSpPr/>
                <p:nvPr/>
              </p:nvSpPr>
              <p:spPr>
                <a:xfrm flipH="1">
                  <a:off x="1752480" y="5410080"/>
                  <a:ext cx="277920" cy="1295640"/>
                </a:xfrm>
                <a:custGeom>
                  <a:avLst/>
                  <a:gdLst/>
                  <a:ahLst/>
                  <a:rect l="l" t="t" r="r" b="b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522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1866960" y="5502240"/>
                  <a:ext cx="84240" cy="93600"/>
                </a:xfrm>
                <a:prstGeom prst="line">
                  <a:avLst/>
                </a:prstGeom>
                <a:ln w="76320">
                  <a:solidFill>
                    <a:srgbClr val="ff94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flipV="1">
                  <a:off x="1928880" y="6532920"/>
                  <a:ext cx="110880" cy="57240"/>
                </a:xfrm>
                <a:prstGeom prst="line">
                  <a:avLst/>
                </a:prstGeom>
                <a:ln w="76320">
                  <a:solidFill>
                    <a:srgbClr val="8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1362240" y="5410080"/>
                <a:ext cx="287280" cy="1295640"/>
                <a:chOff x="1362240" y="5410080"/>
                <a:chExt cx="287280" cy="129564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1371600" y="5410080"/>
                  <a:ext cx="277920" cy="1295640"/>
                </a:xfrm>
                <a:custGeom>
                  <a:avLst/>
                  <a:gdLst/>
                  <a:ahLst/>
                  <a:rect l="l" t="t" r="r" b="b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522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H="1">
                  <a:off x="1450800" y="5502240"/>
                  <a:ext cx="84240" cy="93600"/>
                </a:xfrm>
                <a:prstGeom prst="line">
                  <a:avLst/>
                </a:prstGeom>
                <a:ln w="76320">
                  <a:solidFill>
                    <a:srgbClr val="ff94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flipH="1" flipV="1">
                  <a:off x="1362240" y="6532920"/>
                  <a:ext cx="110880" cy="57240"/>
                </a:xfrm>
                <a:prstGeom prst="line">
                  <a:avLst/>
                </a:prstGeom>
                <a:ln w="76320">
                  <a:solidFill>
                    <a:srgbClr val="8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25" name=""/>
          <p:cNvGrpSpPr/>
          <p:nvPr/>
        </p:nvGrpSpPr>
        <p:grpSpPr>
          <a:xfrm>
            <a:off x="2593440" y="5496480"/>
            <a:ext cx="604080" cy="970200"/>
            <a:chOff x="2593440" y="5496480"/>
            <a:chExt cx="604080" cy="970200"/>
          </a:xfrm>
        </p:grpSpPr>
        <p:sp>
          <p:nvSpPr>
            <p:cNvPr id="426" name=""/>
            <p:cNvSpPr/>
            <p:nvPr/>
          </p:nvSpPr>
          <p:spPr>
            <a:xfrm rot="1800000">
              <a:off x="2590560" y="6171840"/>
              <a:ext cx="609480" cy="152280"/>
            </a:xfrm>
            <a:prstGeom prst="rightArrow">
              <a:avLst>
                <a:gd name="adj1" fmla="val 50000"/>
                <a:gd name="adj2" fmla="val 100059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 rot="19800000">
              <a:off x="2590560" y="5638680"/>
              <a:ext cx="609480" cy="152640"/>
            </a:xfrm>
            <a:prstGeom prst="rightArrow">
              <a:avLst>
                <a:gd name="adj1" fmla="val 50000"/>
                <a:gd name="adj2" fmla="val 99823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3200400" y="5105520"/>
            <a:ext cx="1371600" cy="1752480"/>
            <a:chOff x="3200400" y="5105520"/>
            <a:chExt cx="1371600" cy="1752480"/>
          </a:xfrm>
        </p:grpSpPr>
        <p:sp>
          <p:nvSpPr>
            <p:cNvPr id="429" name=""/>
            <p:cNvSpPr/>
            <p:nvPr/>
          </p:nvSpPr>
          <p:spPr>
            <a:xfrm rot="16200000">
              <a:off x="3009960" y="5295960"/>
              <a:ext cx="1752480" cy="1371600"/>
            </a:xfrm>
            <a:prstGeom prst="ellipse">
              <a:avLst/>
            </a:prstGeom>
            <a:solidFill>
              <a:srgbClr val="b7c1e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3522960" y="5334120"/>
              <a:ext cx="677520" cy="1295280"/>
              <a:chOff x="3522960" y="5334120"/>
              <a:chExt cx="677520" cy="1295280"/>
            </a:xfrm>
          </p:grpSpPr>
          <p:grpSp>
            <p:nvGrpSpPr>
              <p:cNvPr id="431" name=""/>
              <p:cNvGrpSpPr/>
              <p:nvPr/>
            </p:nvGrpSpPr>
            <p:grpSpPr>
              <a:xfrm>
                <a:off x="3913200" y="5334120"/>
                <a:ext cx="287280" cy="1295280"/>
                <a:chOff x="3913200" y="5334120"/>
                <a:chExt cx="287280" cy="1295280"/>
              </a:xfrm>
            </p:grpSpPr>
            <p:sp>
              <p:nvSpPr>
                <p:cNvPr id="432" name=""/>
                <p:cNvSpPr/>
                <p:nvPr/>
              </p:nvSpPr>
              <p:spPr>
                <a:xfrm flipH="1">
                  <a:off x="3913200" y="5334120"/>
                  <a:ext cx="277920" cy="1295280"/>
                </a:xfrm>
                <a:custGeom>
                  <a:avLst/>
                  <a:gdLst/>
                  <a:ahLst/>
                  <a:rect l="l" t="t" r="r" b="b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5228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027680" y="5425920"/>
                  <a:ext cx="83880" cy="93240"/>
                </a:xfrm>
                <a:prstGeom prst="line">
                  <a:avLst/>
                </a:prstGeom>
                <a:ln w="76320">
                  <a:solidFill>
                    <a:srgbClr val="ffea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 flipV="1">
                  <a:off x="4089600" y="6456960"/>
                  <a:ext cx="110880" cy="56880"/>
                </a:xfrm>
                <a:prstGeom prst="line">
                  <a:avLst/>
                </a:prstGeom>
                <a:ln w="76320">
                  <a:solidFill>
                    <a:srgbClr val="85dab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3522960" y="5334120"/>
                <a:ext cx="286920" cy="1295280"/>
                <a:chOff x="3522960" y="5334120"/>
                <a:chExt cx="286920" cy="129528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3532320" y="5334120"/>
                  <a:ext cx="277560" cy="1295280"/>
                </a:xfrm>
                <a:custGeom>
                  <a:avLst/>
                  <a:gdLst/>
                  <a:ahLst/>
                  <a:rect l="l" t="t" r="r" b="b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5228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flipH="1">
                  <a:off x="3611880" y="5425920"/>
                  <a:ext cx="83520" cy="93240"/>
                </a:xfrm>
                <a:prstGeom prst="line">
                  <a:avLst/>
                </a:prstGeom>
                <a:ln w="76320">
                  <a:solidFill>
                    <a:srgbClr val="ffea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flipH="1" flipV="1">
                  <a:off x="3522960" y="6456960"/>
                  <a:ext cx="110520" cy="56880"/>
                </a:xfrm>
                <a:prstGeom prst="line">
                  <a:avLst/>
                </a:prstGeom>
                <a:ln w="76320">
                  <a:solidFill>
                    <a:srgbClr val="85dab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39" name=""/>
          <p:cNvGrpSpPr/>
          <p:nvPr/>
        </p:nvGrpSpPr>
        <p:grpSpPr>
          <a:xfrm>
            <a:off x="4800600" y="5105520"/>
            <a:ext cx="1371600" cy="1752480"/>
            <a:chOff x="4800600" y="5105520"/>
            <a:chExt cx="1371600" cy="1752480"/>
          </a:xfrm>
        </p:grpSpPr>
        <p:sp>
          <p:nvSpPr>
            <p:cNvPr id="440" name=""/>
            <p:cNvSpPr/>
            <p:nvPr/>
          </p:nvSpPr>
          <p:spPr>
            <a:xfrm rot="16200000">
              <a:off x="4610160" y="5295960"/>
              <a:ext cx="1752480" cy="1371600"/>
            </a:xfrm>
            <a:prstGeom prst="ellipse">
              <a:avLst/>
            </a:prstGeom>
            <a:solidFill>
              <a:srgbClr val="b7c1e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5172120" y="5334120"/>
              <a:ext cx="677520" cy="1295280"/>
              <a:chOff x="5172120" y="5334120"/>
              <a:chExt cx="677520" cy="1295280"/>
            </a:xfrm>
          </p:grpSpPr>
          <p:grpSp>
            <p:nvGrpSpPr>
              <p:cNvPr id="442" name=""/>
              <p:cNvGrpSpPr/>
              <p:nvPr/>
            </p:nvGrpSpPr>
            <p:grpSpPr>
              <a:xfrm>
                <a:off x="5562360" y="5334120"/>
                <a:ext cx="287280" cy="1295280"/>
                <a:chOff x="5562360" y="5334120"/>
                <a:chExt cx="287280" cy="1295280"/>
              </a:xfrm>
            </p:grpSpPr>
            <p:sp>
              <p:nvSpPr>
                <p:cNvPr id="443" name=""/>
                <p:cNvSpPr/>
                <p:nvPr/>
              </p:nvSpPr>
              <p:spPr>
                <a:xfrm flipH="1">
                  <a:off x="5562360" y="5334120"/>
                  <a:ext cx="277920" cy="1295280"/>
                </a:xfrm>
                <a:custGeom>
                  <a:avLst/>
                  <a:gdLst/>
                  <a:ahLst/>
                  <a:rect l="l" t="t" r="r" b="b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522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5676840" y="5425920"/>
                  <a:ext cx="84240" cy="93240"/>
                </a:xfrm>
                <a:prstGeom prst="line">
                  <a:avLst/>
                </a:prstGeom>
                <a:ln w="76320">
                  <a:solidFill>
                    <a:srgbClr val="ff94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flipV="1">
                  <a:off x="5738760" y="6456960"/>
                  <a:ext cx="110880" cy="56880"/>
                </a:xfrm>
                <a:prstGeom prst="line">
                  <a:avLst/>
                </a:prstGeom>
                <a:ln w="76320">
                  <a:solidFill>
                    <a:srgbClr val="8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5172120" y="5334120"/>
                <a:ext cx="287280" cy="1295280"/>
                <a:chOff x="5172120" y="5334120"/>
                <a:chExt cx="287280" cy="129528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5181480" y="5334120"/>
                  <a:ext cx="277920" cy="1295280"/>
                </a:xfrm>
                <a:custGeom>
                  <a:avLst/>
                  <a:gdLst/>
                  <a:ahLst/>
                  <a:rect l="l" t="t" r="r" b="b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522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flipH="1">
                  <a:off x="5260680" y="5425920"/>
                  <a:ext cx="84240" cy="93240"/>
                </a:xfrm>
                <a:prstGeom prst="line">
                  <a:avLst/>
                </a:prstGeom>
                <a:ln w="76320">
                  <a:solidFill>
                    <a:srgbClr val="ff94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flipH="1" flipV="1">
                  <a:off x="5172120" y="6456960"/>
                  <a:ext cx="110880" cy="56880"/>
                </a:xfrm>
                <a:prstGeom prst="line">
                  <a:avLst/>
                </a:prstGeom>
                <a:ln w="76320">
                  <a:solidFill>
                    <a:srgbClr val="8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50" name=""/>
          <p:cNvGrpSpPr/>
          <p:nvPr/>
        </p:nvGrpSpPr>
        <p:grpSpPr>
          <a:xfrm>
            <a:off x="3865680" y="4876920"/>
            <a:ext cx="1636560" cy="2133360"/>
            <a:chOff x="3865680" y="4876920"/>
            <a:chExt cx="1636560" cy="2133360"/>
          </a:xfrm>
        </p:grpSpPr>
        <p:sp>
          <p:nvSpPr>
            <p:cNvPr id="451" name=""/>
            <p:cNvSpPr/>
            <p:nvPr/>
          </p:nvSpPr>
          <p:spPr>
            <a:xfrm>
              <a:off x="3865680" y="4876920"/>
              <a:ext cx="0" cy="21333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502240" y="4876920"/>
              <a:ext cx="0" cy="21333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3162240" y="4724280"/>
            <a:ext cx="3505320" cy="2133720"/>
            <a:chOff x="3162240" y="4724280"/>
            <a:chExt cx="3505320" cy="2133720"/>
          </a:xfrm>
        </p:grpSpPr>
        <p:sp>
          <p:nvSpPr>
            <p:cNvPr id="454" name=""/>
            <p:cNvSpPr/>
            <p:nvPr/>
          </p:nvSpPr>
          <p:spPr>
            <a:xfrm>
              <a:off x="3162240" y="4724280"/>
              <a:ext cx="3505320" cy="21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3200400" y="5105520"/>
              <a:ext cx="3352680" cy="1752480"/>
              <a:chOff x="3200400" y="5105520"/>
              <a:chExt cx="3352680" cy="1752480"/>
            </a:xfrm>
          </p:grpSpPr>
          <p:grpSp>
            <p:nvGrpSpPr>
              <p:cNvPr id="456" name=""/>
              <p:cNvGrpSpPr/>
              <p:nvPr/>
            </p:nvGrpSpPr>
            <p:grpSpPr>
              <a:xfrm>
                <a:off x="3200400" y="5105520"/>
                <a:ext cx="838080" cy="1752480"/>
                <a:chOff x="3200400" y="5105520"/>
                <a:chExt cx="838080" cy="1752480"/>
              </a:xfrm>
            </p:grpSpPr>
            <p:sp>
              <p:nvSpPr>
                <p:cNvPr id="457" name=""/>
                <p:cNvSpPr/>
                <p:nvPr/>
              </p:nvSpPr>
              <p:spPr>
                <a:xfrm rot="16200000">
                  <a:off x="2743200" y="5562720"/>
                  <a:ext cx="1752480" cy="83808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8" name=""/>
                <p:cNvGrpSpPr/>
                <p:nvPr/>
              </p:nvGrpSpPr>
              <p:grpSpPr>
                <a:xfrm>
                  <a:off x="3495960" y="5334120"/>
                  <a:ext cx="286920" cy="1295280"/>
                  <a:chOff x="3495960" y="5334120"/>
                  <a:chExt cx="286920" cy="129528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>
                    <a:off x="3505320" y="5334120"/>
                    <a:ext cx="277560" cy="129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1344">
                        <a:moveTo>
                          <a:pt x="0" y="0"/>
                        </a:moveTo>
                        <a:cubicBezTo>
                          <a:pt x="144" y="152"/>
                          <a:pt x="288" y="304"/>
                          <a:pt x="288" y="528"/>
                        </a:cubicBezTo>
                        <a:cubicBezTo>
                          <a:pt x="288" y="752"/>
                          <a:pt x="48" y="1208"/>
                          <a:pt x="0" y="1344"/>
                        </a:cubicBezTo>
                      </a:path>
                    </a:pathLst>
                  </a:custGeom>
                  <a:noFill/>
                  <a:ln w="15228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flipH="1">
                    <a:off x="3584880" y="5425920"/>
                    <a:ext cx="83520" cy="93240"/>
                  </a:xfrm>
                  <a:prstGeom prst="line">
                    <a:avLst/>
                  </a:prstGeom>
                  <a:ln w="76320">
                    <a:solidFill>
                      <a:srgbClr val="ffea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 flipH="1" flipV="1">
                    <a:off x="3495960" y="6456960"/>
                    <a:ext cx="110520" cy="56880"/>
                  </a:xfrm>
                  <a:prstGeom prst="line">
                    <a:avLst/>
                  </a:prstGeom>
                  <a:ln w="76320">
                    <a:solidFill>
                      <a:srgbClr val="85dab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2" name=""/>
              <p:cNvGrpSpPr/>
              <p:nvPr/>
            </p:nvGrpSpPr>
            <p:grpSpPr>
              <a:xfrm>
                <a:off x="4038480" y="5105520"/>
                <a:ext cx="838440" cy="1752480"/>
                <a:chOff x="4038480" y="5105520"/>
                <a:chExt cx="838440" cy="1752480"/>
              </a:xfrm>
            </p:grpSpPr>
            <p:sp>
              <p:nvSpPr>
                <p:cNvPr id="463" name=""/>
                <p:cNvSpPr/>
                <p:nvPr/>
              </p:nvSpPr>
              <p:spPr>
                <a:xfrm rot="16200000">
                  <a:off x="3581280" y="5562360"/>
                  <a:ext cx="1752480" cy="83844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4" name=""/>
                <p:cNvGrpSpPr/>
                <p:nvPr/>
              </p:nvGrpSpPr>
              <p:grpSpPr>
                <a:xfrm>
                  <a:off x="4294080" y="5334120"/>
                  <a:ext cx="287280" cy="1295280"/>
                  <a:chOff x="4294080" y="5334120"/>
                  <a:chExt cx="287280" cy="129528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 flipH="1">
                    <a:off x="4294080" y="5334120"/>
                    <a:ext cx="277920" cy="129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1344">
                        <a:moveTo>
                          <a:pt x="0" y="0"/>
                        </a:moveTo>
                        <a:cubicBezTo>
                          <a:pt x="144" y="152"/>
                          <a:pt x="288" y="304"/>
                          <a:pt x="288" y="528"/>
                        </a:cubicBezTo>
                        <a:cubicBezTo>
                          <a:pt x="288" y="752"/>
                          <a:pt x="48" y="1208"/>
                          <a:pt x="0" y="1344"/>
                        </a:cubicBezTo>
                      </a:path>
                    </a:pathLst>
                  </a:custGeom>
                  <a:noFill/>
                  <a:ln w="15228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4408560" y="5425920"/>
                    <a:ext cx="83880" cy="93240"/>
                  </a:xfrm>
                  <a:prstGeom prst="line">
                    <a:avLst/>
                  </a:prstGeom>
                  <a:ln w="76320">
                    <a:solidFill>
                      <a:srgbClr val="ffea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 flipV="1">
                    <a:off x="4470480" y="6456960"/>
                    <a:ext cx="110880" cy="56880"/>
                  </a:xfrm>
                  <a:prstGeom prst="line">
                    <a:avLst/>
                  </a:prstGeom>
                  <a:ln w="76320">
                    <a:solidFill>
                      <a:srgbClr val="85dab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8" name=""/>
              <p:cNvGrpSpPr/>
              <p:nvPr/>
            </p:nvGrpSpPr>
            <p:grpSpPr>
              <a:xfrm>
                <a:off x="5715000" y="5105520"/>
                <a:ext cx="838080" cy="1752480"/>
                <a:chOff x="5715000" y="5105520"/>
                <a:chExt cx="838080" cy="1752480"/>
              </a:xfrm>
            </p:grpSpPr>
            <p:sp>
              <p:nvSpPr>
                <p:cNvPr id="469" name=""/>
                <p:cNvSpPr/>
                <p:nvPr/>
              </p:nvSpPr>
              <p:spPr>
                <a:xfrm rot="16200000">
                  <a:off x="5257800" y="5562720"/>
                  <a:ext cx="1752480" cy="83808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0" name=""/>
                <p:cNvGrpSpPr/>
                <p:nvPr/>
              </p:nvGrpSpPr>
              <p:grpSpPr>
                <a:xfrm>
                  <a:off x="5970600" y="5334120"/>
                  <a:ext cx="287280" cy="1295280"/>
                  <a:chOff x="5970600" y="5334120"/>
                  <a:chExt cx="287280" cy="129528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 flipH="1">
                    <a:off x="5970600" y="5334120"/>
                    <a:ext cx="277920" cy="129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1344">
                        <a:moveTo>
                          <a:pt x="0" y="0"/>
                        </a:moveTo>
                        <a:cubicBezTo>
                          <a:pt x="144" y="152"/>
                          <a:pt x="288" y="304"/>
                          <a:pt x="288" y="528"/>
                        </a:cubicBezTo>
                        <a:cubicBezTo>
                          <a:pt x="288" y="752"/>
                          <a:pt x="48" y="1208"/>
                          <a:pt x="0" y="1344"/>
                        </a:cubicBezTo>
                      </a:path>
                    </a:pathLst>
                  </a:custGeom>
                  <a:noFill/>
                  <a:ln w="1522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6085080" y="5425920"/>
                    <a:ext cx="84240" cy="93240"/>
                  </a:xfrm>
                  <a:prstGeom prst="line">
                    <a:avLst/>
                  </a:prstGeom>
                  <a:ln w="76320">
                    <a:solidFill>
                      <a:srgbClr val="ff94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 flipV="1">
                    <a:off x="6147000" y="6456960"/>
                    <a:ext cx="110880" cy="56880"/>
                  </a:xfrm>
                  <a:prstGeom prst="line">
                    <a:avLst/>
                  </a:prstGeom>
                  <a:ln w="76320">
                    <a:solidFill>
                      <a:srgbClr val="8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4" name=""/>
              <p:cNvGrpSpPr/>
              <p:nvPr/>
            </p:nvGrpSpPr>
            <p:grpSpPr>
              <a:xfrm>
                <a:off x="4876920" y="5105520"/>
                <a:ext cx="838080" cy="1752480"/>
                <a:chOff x="4876920" y="5105520"/>
                <a:chExt cx="838080" cy="1752480"/>
              </a:xfrm>
            </p:grpSpPr>
            <p:sp>
              <p:nvSpPr>
                <p:cNvPr id="475" name=""/>
                <p:cNvSpPr/>
                <p:nvPr/>
              </p:nvSpPr>
              <p:spPr>
                <a:xfrm rot="16200000">
                  <a:off x="4419720" y="5562720"/>
                  <a:ext cx="1752480" cy="83808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6" name=""/>
                <p:cNvGrpSpPr/>
                <p:nvPr/>
              </p:nvGrpSpPr>
              <p:grpSpPr>
                <a:xfrm>
                  <a:off x="5172120" y="5334120"/>
                  <a:ext cx="287280" cy="1295280"/>
                  <a:chOff x="5172120" y="5334120"/>
                  <a:chExt cx="287280" cy="1295280"/>
                </a:xfrm>
              </p:grpSpPr>
              <p:sp>
                <p:nvSpPr>
                  <p:cNvPr id="477" name=""/>
                  <p:cNvSpPr/>
                  <p:nvPr/>
                </p:nvSpPr>
                <p:spPr>
                  <a:xfrm>
                    <a:off x="5181480" y="5334120"/>
                    <a:ext cx="277920" cy="129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1344">
                        <a:moveTo>
                          <a:pt x="0" y="0"/>
                        </a:moveTo>
                        <a:cubicBezTo>
                          <a:pt x="144" y="152"/>
                          <a:pt x="288" y="304"/>
                          <a:pt x="288" y="528"/>
                        </a:cubicBezTo>
                        <a:cubicBezTo>
                          <a:pt x="288" y="752"/>
                          <a:pt x="48" y="1208"/>
                          <a:pt x="0" y="1344"/>
                        </a:cubicBezTo>
                      </a:path>
                    </a:pathLst>
                  </a:custGeom>
                  <a:noFill/>
                  <a:ln w="1522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flipH="1">
                    <a:off x="5260680" y="5425920"/>
                    <a:ext cx="84240" cy="93240"/>
                  </a:xfrm>
                  <a:prstGeom prst="line">
                    <a:avLst/>
                  </a:prstGeom>
                  <a:ln w="76320">
                    <a:solidFill>
                      <a:srgbClr val="ff94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flipH="1" flipV="1">
                    <a:off x="5172120" y="6456960"/>
                    <a:ext cx="110880" cy="56880"/>
                  </a:xfrm>
                  <a:prstGeom prst="line">
                    <a:avLst/>
                  </a:prstGeom>
                  <a:ln w="76320">
                    <a:solidFill>
                      <a:srgbClr val="8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80" name=""/>
          <p:cNvSpPr/>
          <p:nvPr/>
        </p:nvSpPr>
        <p:spPr>
          <a:xfrm>
            <a:off x="1295280" y="4952880"/>
            <a:ext cx="0" cy="21337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F2E7-6721-49BD-8427-671F02624C77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4078440" y="1523880"/>
            <a:ext cx="5065560" cy="533412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aw of Segreg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4267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at meiotic event creates the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aw of segregation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2666520" y="3962160"/>
            <a:ext cx="2210040" cy="838080"/>
            <a:chOff x="2666520" y="3962160"/>
            <a:chExt cx="2210040" cy="838080"/>
          </a:xfrm>
        </p:grpSpPr>
        <p:sp>
          <p:nvSpPr>
            <p:cNvPr id="486" name=""/>
            <p:cNvSpPr/>
            <p:nvPr/>
          </p:nvSpPr>
          <p:spPr>
            <a:xfrm>
              <a:off x="2742840" y="4267080"/>
              <a:ext cx="2133720" cy="533160"/>
            </a:xfrm>
            <a:custGeom>
              <a:avLst/>
              <a:gdLst>
                <a:gd name="textAreaLeft" fmla="*/ 333360 w 2133720"/>
                <a:gd name="textAreaRight" fmla="*/ 1867320 w 2133720"/>
                <a:gd name="textAreaTop" fmla="*/ 133200 h 533160"/>
                <a:gd name="textAreaBottom" fmla="*/ 39996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666520" y="3962160"/>
              <a:ext cx="1671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Meiosis 1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151920" y="3809880"/>
            <a:ext cx="2133720" cy="2971800"/>
            <a:chOff x="151920" y="3809880"/>
            <a:chExt cx="2133720" cy="2971800"/>
          </a:xfrm>
        </p:grpSpPr>
        <p:pic>
          <p:nvPicPr>
            <p:cNvPr id="489" name="" descr=""/>
            <p:cNvPicPr/>
            <p:nvPr/>
          </p:nvPicPr>
          <p:blipFill>
            <a:blip r:embed="rId2"/>
            <a:stretch/>
          </p:blipFill>
          <p:spPr>
            <a:xfrm flipH="1">
              <a:off x="151920" y="5486400"/>
              <a:ext cx="12747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 flipH="1">
              <a:off x="151560" y="3809880"/>
              <a:ext cx="2133720" cy="1219320"/>
            </a:xfrm>
            <a:prstGeom prst="wedgeEllipseCallout">
              <a:avLst>
                <a:gd name="adj1" fmla="val 4162"/>
                <a:gd name="adj2" fmla="val 102861"/>
              </a:avLst>
            </a:prstGeom>
            <a:solidFill>
              <a:srgbClr val="ffea18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And Mendel</a:t>
              </a:r>
              <a:br>
                <a:rPr sz="1600"/>
              </a:b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didn’t even know</a:t>
              </a:r>
              <a:br>
                <a:rPr sz="1600"/>
              </a:b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DNA or genes</a:t>
              </a:r>
              <a:br>
                <a:rPr sz="1600"/>
              </a:b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existed!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BE00-355D-476E-9FCD-5A5F3AD60C6D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regor Mende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632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odern genetics began in the mid-1800s in an abbey garden, where a monk named Gregor Mendel documented inheritance in pea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used experimental metho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used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quantitative analysi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ollected data &amp; counted them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xcellent example of scientific metho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 flipH="1">
            <a:off x="7089480" y="380880"/>
            <a:ext cx="1893960" cy="2895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BEEC-C984-453F-BC1F-A1D21BF21095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onohybrid cros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ome of Mendel’s experiments followed the inheritance of single character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lower colo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ed color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monohybrid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cross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1066680" y="4495680"/>
            <a:ext cx="7010640" cy="230688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17F2-4E29-4DAC-B791-BEF9A8E3B9C9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1"/>
          <a:srcRect l="15750" t="2252" r="15750" b="0"/>
          <a:stretch/>
        </p:blipFill>
        <p:spPr>
          <a:xfrm>
            <a:off x="5214960" y="1371600"/>
            <a:ext cx="3929040" cy="420696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ihybrid cros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47246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ther of Mendel’s experiments followed the inheritance of 2 different character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ed color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and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ed shap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dihybrid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cross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304560" y="5181480"/>
            <a:ext cx="4647960" cy="1600200"/>
            <a:chOff x="304560" y="5181480"/>
            <a:chExt cx="4647960" cy="1600200"/>
          </a:xfrm>
        </p:grpSpPr>
        <p:pic>
          <p:nvPicPr>
            <p:cNvPr id="500" name="" descr=""/>
            <p:cNvPicPr/>
            <p:nvPr/>
          </p:nvPicPr>
          <p:blipFill>
            <a:blip r:embed="rId2"/>
            <a:stretch/>
          </p:blipFill>
          <p:spPr>
            <a:xfrm flipH="1">
              <a:off x="304560" y="5486400"/>
              <a:ext cx="12747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 flipH="1">
              <a:off x="2513880" y="5181480"/>
              <a:ext cx="2438280" cy="1524240"/>
            </a:xfrm>
            <a:prstGeom prst="wedgeEllipseCallout">
              <a:avLst>
                <a:gd name="adj1" fmla="val 100842"/>
                <a:gd name="adj2" fmla="val -7296"/>
              </a:avLst>
            </a:prstGeom>
            <a:solidFill>
              <a:srgbClr val="ffea18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This helped Mendel</a:t>
              </a:r>
              <a:br>
                <a:rPr sz="1600"/>
              </a:b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understand other</a:t>
              </a:r>
              <a:br>
                <a:rPr sz="1600"/>
              </a:b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genetic “rules”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135A-B9A8-4CBE-88ED-4A01B50E8BC7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ihybrid cros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214640" y="1598400"/>
            <a:ext cx="269532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true-breeding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yellow, round pea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108320" y="16765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969520" y="1598400"/>
            <a:ext cx="294372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true-breeding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green, wrinkled pea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817880" y="1729800"/>
            <a:ext cx="36504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651840" y="2040840"/>
            <a:ext cx="124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193360" y="2040840"/>
            <a:ext cx="90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5403960" y="1714680"/>
            <a:ext cx="457200" cy="380880"/>
            <a:chOff x="5403960" y="1714680"/>
            <a:chExt cx="457200" cy="380880"/>
          </a:xfrm>
        </p:grpSpPr>
        <p:sp>
          <p:nvSpPr>
            <p:cNvPr id="511" name=""/>
            <p:cNvSpPr/>
            <p:nvPr/>
          </p:nvSpPr>
          <p:spPr>
            <a:xfrm>
              <a:off x="5403960" y="1790640"/>
              <a:ext cx="152280" cy="15264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479920" y="171468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708520" y="186696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08520" y="1790640"/>
              <a:ext cx="152640" cy="15264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32560" y="1714680"/>
              <a:ext cx="15228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479920" y="186696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0063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632560" y="1943280"/>
              <a:ext cx="15228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479920" y="194328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556240" y="1790640"/>
              <a:ext cx="228600" cy="22860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0063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4881600" y="2362320"/>
            <a:ext cx="228600" cy="838080"/>
          </a:xfrm>
          <a:prstGeom prst="downArrow">
            <a:avLst>
              <a:gd name="adj1" fmla="val 50000"/>
              <a:gd name="adj2" fmla="val 91654"/>
            </a:avLst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98440" y="6321600"/>
            <a:ext cx="19051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10920" y="1641240"/>
            <a:ext cx="435240" cy="41364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490640" y="402192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609840" y="3260160"/>
            <a:ext cx="8319240" cy="1015560"/>
            <a:chOff x="609840" y="3260160"/>
            <a:chExt cx="8319240" cy="1015560"/>
          </a:xfrm>
        </p:grpSpPr>
        <p:sp>
          <p:nvSpPr>
            <p:cNvPr id="525" name=""/>
            <p:cNvSpPr/>
            <p:nvPr/>
          </p:nvSpPr>
          <p:spPr>
            <a:xfrm>
              <a:off x="7774560" y="3504960"/>
              <a:ext cx="1154520" cy="413640"/>
            </a:xfrm>
            <a:prstGeom prst="rect">
              <a:avLst/>
            </a:pr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100%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09840" y="3265200"/>
              <a:ext cx="1482120" cy="1010520"/>
            </a:xfrm>
            <a:prstGeom prst="rect">
              <a:avLst/>
            </a:pr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F</a:t>
              </a:r>
              <a:r>
                <a:rPr b="1" lang="en-US" sz="3000" spc="-1" strike="noStrike" baseline="-25000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generation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(hybrids)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2660760" y="3641760"/>
              <a:ext cx="4724280" cy="457200"/>
              <a:chOff x="2660760" y="3641760"/>
              <a:chExt cx="4724280" cy="457200"/>
            </a:xfrm>
          </p:grpSpPr>
          <p:sp>
            <p:nvSpPr>
              <p:cNvPr id="528" name=""/>
              <p:cNvSpPr/>
              <p:nvPr/>
            </p:nvSpPr>
            <p:spPr>
              <a:xfrm>
                <a:off x="4794120" y="3641760"/>
                <a:ext cx="457200" cy="45720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327640" y="3641760"/>
                <a:ext cx="457200" cy="45720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861160" y="3641760"/>
                <a:ext cx="457200" cy="45720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394320" y="3641760"/>
                <a:ext cx="457200" cy="45720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660760" y="3641760"/>
                <a:ext cx="457200" cy="45720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193920" y="3641760"/>
                <a:ext cx="457200" cy="45720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727440" y="3641760"/>
                <a:ext cx="457200" cy="45720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260960" y="3641760"/>
                <a:ext cx="457200" cy="45720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927840" y="3641760"/>
                <a:ext cx="457200" cy="45720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3659400" y="3260160"/>
              <a:ext cx="269532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yellow, round peas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229680" y="4572000"/>
            <a:ext cx="4880520" cy="685800"/>
            <a:chOff x="229680" y="4572000"/>
            <a:chExt cx="4880520" cy="685800"/>
          </a:xfrm>
        </p:grpSpPr>
        <p:sp>
          <p:nvSpPr>
            <p:cNvPr id="539" name=""/>
            <p:cNvSpPr/>
            <p:nvPr/>
          </p:nvSpPr>
          <p:spPr>
            <a:xfrm>
              <a:off x="4881600" y="4572000"/>
              <a:ext cx="228600" cy="685800"/>
            </a:xfrm>
            <a:prstGeom prst="downArrow">
              <a:avLst>
                <a:gd name="adj1" fmla="val 50000"/>
                <a:gd name="adj2" fmla="val 75000"/>
              </a:avLst>
            </a:prstGeom>
            <a:solidFill>
              <a:srgbClr val="0f116a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40" name=""/>
            <p:cNvGrpSpPr/>
            <p:nvPr/>
          </p:nvGrpSpPr>
          <p:grpSpPr>
            <a:xfrm>
              <a:off x="229680" y="4648320"/>
              <a:ext cx="1980000" cy="609480"/>
              <a:chOff x="229680" y="4648320"/>
              <a:chExt cx="1980000" cy="609480"/>
            </a:xfrm>
          </p:grpSpPr>
          <p:sp>
            <p:nvSpPr>
              <p:cNvPr id="541" name=""/>
              <p:cNvSpPr/>
              <p:nvPr/>
            </p:nvSpPr>
            <p:spPr>
              <a:xfrm>
                <a:off x="304920" y="4648320"/>
                <a:ext cx="1904760" cy="609480"/>
              </a:xfrm>
              <a:prstGeom prst="rightArrow">
                <a:avLst>
                  <a:gd name="adj1" fmla="val 50000"/>
                  <a:gd name="adj2" fmla="val 78131"/>
                </a:avLst>
              </a:prstGeom>
              <a:solidFill>
                <a:srgbClr val="ffcc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29680" y="4739400"/>
                <a:ext cx="190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self-pollinate</a:t>
                </a:r>
                <a:endParaRPr b="0" lang="en-US" sz="2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3" name=""/>
          <p:cNvGrpSpPr/>
          <p:nvPr/>
        </p:nvGrpSpPr>
        <p:grpSpPr>
          <a:xfrm>
            <a:off x="609840" y="5763960"/>
            <a:ext cx="6567120" cy="865440"/>
            <a:chOff x="609840" y="5763960"/>
            <a:chExt cx="6567120" cy="865440"/>
          </a:xfrm>
        </p:grpSpPr>
        <p:sp>
          <p:nvSpPr>
            <p:cNvPr id="544" name=""/>
            <p:cNvSpPr/>
            <p:nvPr/>
          </p:nvSpPr>
          <p:spPr>
            <a:xfrm>
              <a:off x="609840" y="5763960"/>
              <a:ext cx="1482120" cy="734040"/>
            </a:xfrm>
            <a:prstGeom prst="rect">
              <a:avLst/>
            </a:pr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F</a:t>
              </a:r>
              <a:r>
                <a:rPr b="1" lang="en-US" sz="30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generation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617220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cc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038480" y="6172200"/>
              <a:ext cx="457200" cy="45720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47" name=""/>
            <p:cNvGrpSpPr/>
            <p:nvPr/>
          </p:nvGrpSpPr>
          <p:grpSpPr>
            <a:xfrm>
              <a:off x="5424480" y="6248520"/>
              <a:ext cx="457200" cy="380880"/>
              <a:chOff x="5424480" y="6248520"/>
              <a:chExt cx="457200" cy="380880"/>
            </a:xfrm>
          </p:grpSpPr>
          <p:sp>
            <p:nvSpPr>
              <p:cNvPr id="548" name=""/>
              <p:cNvSpPr/>
              <p:nvPr/>
            </p:nvSpPr>
            <p:spPr>
              <a:xfrm>
                <a:off x="5424480" y="632484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500800" y="62485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729400" y="6400800"/>
                <a:ext cx="152280" cy="15264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729400" y="632484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653080" y="62485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500800" y="6400800"/>
                <a:ext cx="152280" cy="15264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653080" y="64771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500800" y="64771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576760" y="6324840"/>
                <a:ext cx="228600" cy="22860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ffea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6719760" y="6248520"/>
              <a:ext cx="457200" cy="380880"/>
              <a:chOff x="6719760" y="6248520"/>
              <a:chExt cx="457200" cy="380880"/>
            </a:xfrm>
          </p:grpSpPr>
          <p:sp>
            <p:nvSpPr>
              <p:cNvPr id="558" name=""/>
              <p:cNvSpPr/>
              <p:nvPr/>
            </p:nvSpPr>
            <p:spPr>
              <a:xfrm>
                <a:off x="6719760" y="6324480"/>
                <a:ext cx="152280" cy="15264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795720" y="624852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024320" y="640080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024320" y="6324480"/>
                <a:ext cx="152640" cy="15264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948360" y="6248520"/>
                <a:ext cx="15228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795720" y="640080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0063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948360" y="6477120"/>
                <a:ext cx="15228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795720" y="647712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872040" y="6324480"/>
                <a:ext cx="228600" cy="22860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0063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7" name=""/>
          <p:cNvGrpSpPr/>
          <p:nvPr/>
        </p:nvGrpSpPr>
        <p:grpSpPr>
          <a:xfrm>
            <a:off x="2514600" y="5069520"/>
            <a:ext cx="6571080" cy="1107000"/>
            <a:chOff x="2514600" y="5069520"/>
            <a:chExt cx="6571080" cy="1107000"/>
          </a:xfrm>
        </p:grpSpPr>
        <p:sp>
          <p:nvSpPr>
            <p:cNvPr id="568" name=""/>
            <p:cNvSpPr/>
            <p:nvPr/>
          </p:nvSpPr>
          <p:spPr>
            <a:xfrm>
              <a:off x="2514600" y="5069520"/>
              <a:ext cx="1052640" cy="110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9/16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yellow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round 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peas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678080" y="5374800"/>
              <a:ext cx="1407600" cy="413640"/>
            </a:xfrm>
            <a:prstGeom prst="rect">
              <a:avLst/>
            </a:pr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9:3:3:1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784680" y="5069520"/>
              <a:ext cx="1052280" cy="110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3/16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green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round 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peas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992840" y="5069520"/>
              <a:ext cx="1331640" cy="110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3/16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yellow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wrinkled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peas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288120" y="5069520"/>
              <a:ext cx="1332000" cy="110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1/16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green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wrinkled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peas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73" name=""/>
          <p:cNvSpPr/>
          <p:nvPr/>
        </p:nvSpPr>
        <p:spPr>
          <a:xfrm>
            <a:off x="1828800" y="2209680"/>
            <a:ext cx="1294920" cy="64260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00"/>
                </a:solidFill>
                <a:latin typeface="Arial"/>
              </a:rPr>
              <a:t>Y = yellow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00"/>
                </a:solidFill>
                <a:latin typeface="Arial"/>
              </a:rPr>
              <a:t>R = round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51880" y="2209680"/>
            <a:ext cx="1459440" cy="64260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00"/>
                </a:solidFill>
                <a:latin typeface="Arial"/>
              </a:rPr>
              <a:t>y = gree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00"/>
                </a:solidFill>
                <a:latin typeface="Arial"/>
              </a:rPr>
              <a:t>r = wrinkled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3153-3EE9-4B75-8E2D-B213B3A6EABE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at’s going on here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ow are the alleles on different chromosomes handed out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ogether or separately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1257480" y="2933640"/>
            <a:ext cx="1143000" cy="1143000"/>
            <a:chOff x="1257480" y="2933640"/>
            <a:chExt cx="1143000" cy="1143000"/>
          </a:xfrm>
        </p:grpSpPr>
        <p:sp>
          <p:nvSpPr>
            <p:cNvPr id="579" name=""/>
            <p:cNvSpPr/>
            <p:nvPr/>
          </p:nvSpPr>
          <p:spPr>
            <a:xfrm>
              <a:off x="1257480" y="2933640"/>
              <a:ext cx="1143000" cy="114300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293840" y="3229920"/>
              <a:ext cx="1070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yRr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838080" y="4876920"/>
            <a:ext cx="1981080" cy="838080"/>
            <a:chOff x="838080" y="4876920"/>
            <a:chExt cx="1981080" cy="838080"/>
          </a:xfrm>
        </p:grpSpPr>
        <p:grpSp>
          <p:nvGrpSpPr>
            <p:cNvPr id="582" name=""/>
            <p:cNvGrpSpPr/>
            <p:nvPr/>
          </p:nvGrpSpPr>
          <p:grpSpPr>
            <a:xfrm>
              <a:off x="838080" y="4876920"/>
              <a:ext cx="838080" cy="838080"/>
              <a:chOff x="838080" y="4876920"/>
              <a:chExt cx="838080" cy="838080"/>
            </a:xfrm>
          </p:grpSpPr>
          <p:sp>
            <p:nvSpPr>
              <p:cNvPr id="583" name=""/>
              <p:cNvSpPr/>
              <p:nvPr/>
            </p:nvSpPr>
            <p:spPr>
              <a:xfrm>
                <a:off x="838080" y="487692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905400" y="5028480"/>
                <a:ext cx="711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1981080" y="4876920"/>
              <a:ext cx="838080" cy="838080"/>
              <a:chOff x="1981080" y="4876920"/>
              <a:chExt cx="838080" cy="838080"/>
            </a:xfrm>
          </p:grpSpPr>
          <p:sp>
            <p:nvSpPr>
              <p:cNvPr id="586" name=""/>
              <p:cNvSpPr/>
              <p:nvPr/>
            </p:nvSpPr>
            <p:spPr>
              <a:xfrm>
                <a:off x="1981080" y="487692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133720" y="5028480"/>
                <a:ext cx="5403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8" name=""/>
          <p:cNvSpPr/>
          <p:nvPr/>
        </p:nvSpPr>
        <p:spPr>
          <a:xfrm>
            <a:off x="1714680" y="4152960"/>
            <a:ext cx="228600" cy="838080"/>
          </a:xfrm>
          <a:prstGeom prst="downArrow">
            <a:avLst>
              <a:gd name="adj1" fmla="val 50000"/>
              <a:gd name="adj2" fmla="val 91654"/>
            </a:avLst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5943600" y="2933640"/>
            <a:ext cx="1143000" cy="1143000"/>
            <a:chOff x="5943600" y="2933640"/>
            <a:chExt cx="1143000" cy="1143000"/>
          </a:xfrm>
        </p:grpSpPr>
        <p:sp>
          <p:nvSpPr>
            <p:cNvPr id="590" name=""/>
            <p:cNvSpPr/>
            <p:nvPr/>
          </p:nvSpPr>
          <p:spPr>
            <a:xfrm>
              <a:off x="5943600" y="2933640"/>
              <a:ext cx="1143000" cy="114300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979960" y="3229920"/>
              <a:ext cx="1070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yRr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5524560" y="4876920"/>
            <a:ext cx="838080" cy="838080"/>
            <a:chOff x="5524560" y="4876920"/>
            <a:chExt cx="838080" cy="838080"/>
          </a:xfrm>
        </p:grpSpPr>
        <p:sp>
          <p:nvSpPr>
            <p:cNvPr id="593" name=""/>
            <p:cNvSpPr/>
            <p:nvPr/>
          </p:nvSpPr>
          <p:spPr>
            <a:xfrm>
              <a:off x="5524560" y="4876920"/>
              <a:ext cx="838080" cy="8380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655600" y="5028480"/>
              <a:ext cx="583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6667560" y="4876920"/>
            <a:ext cx="838080" cy="838080"/>
            <a:chOff x="6667560" y="4876920"/>
            <a:chExt cx="838080" cy="838080"/>
          </a:xfrm>
        </p:grpSpPr>
        <p:sp>
          <p:nvSpPr>
            <p:cNvPr id="596" name=""/>
            <p:cNvSpPr/>
            <p:nvPr/>
          </p:nvSpPr>
          <p:spPr>
            <a:xfrm>
              <a:off x="6667560" y="4876920"/>
              <a:ext cx="838080" cy="8380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756120" y="502848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400800" y="4152960"/>
            <a:ext cx="228600" cy="838080"/>
          </a:xfrm>
          <a:prstGeom prst="downArrow">
            <a:avLst>
              <a:gd name="adj1" fmla="val 50000"/>
              <a:gd name="adj2" fmla="val 91654"/>
            </a:avLst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4495680" y="4876920"/>
            <a:ext cx="838080" cy="838080"/>
            <a:chOff x="4495680" y="4876920"/>
            <a:chExt cx="838080" cy="838080"/>
          </a:xfrm>
        </p:grpSpPr>
        <p:sp>
          <p:nvSpPr>
            <p:cNvPr id="600" name=""/>
            <p:cNvSpPr/>
            <p:nvPr/>
          </p:nvSpPr>
          <p:spPr>
            <a:xfrm>
              <a:off x="4495680" y="4876920"/>
              <a:ext cx="838080" cy="8380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563000" y="502848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7696080" y="4876920"/>
            <a:ext cx="838080" cy="838080"/>
            <a:chOff x="7696080" y="4876920"/>
            <a:chExt cx="838080" cy="838080"/>
          </a:xfrm>
        </p:grpSpPr>
        <p:sp>
          <p:nvSpPr>
            <p:cNvPr id="603" name=""/>
            <p:cNvSpPr/>
            <p:nvPr/>
          </p:nvSpPr>
          <p:spPr>
            <a:xfrm>
              <a:off x="7696080" y="4876920"/>
              <a:ext cx="838080" cy="8380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848720" y="5028480"/>
              <a:ext cx="54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2819520" y="5410080"/>
            <a:ext cx="3961800" cy="1371600"/>
            <a:chOff x="2819520" y="5410080"/>
            <a:chExt cx="3961800" cy="1371600"/>
          </a:xfrm>
        </p:grpSpPr>
        <p:pic>
          <p:nvPicPr>
            <p:cNvPr id="606" name="" descr=""/>
            <p:cNvPicPr/>
            <p:nvPr/>
          </p:nvPicPr>
          <p:blipFill>
            <a:blip r:embed="rId1"/>
            <a:stretch/>
          </p:blipFill>
          <p:spPr>
            <a:xfrm flipH="1">
              <a:off x="2819520" y="5410080"/>
              <a:ext cx="1274400" cy="12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 flipH="1">
              <a:off x="4647960" y="5791320"/>
              <a:ext cx="2133360" cy="990360"/>
            </a:xfrm>
            <a:prstGeom prst="wedgeEllipseCallout">
              <a:avLst>
                <a:gd name="adj1" fmla="val 92782"/>
                <a:gd name="adj2" fmla="val -54972"/>
              </a:avLst>
            </a:prstGeom>
            <a:solidFill>
              <a:srgbClr val="ffea18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Which system</a:t>
              </a:r>
              <a:br>
                <a:rPr sz="1600"/>
              </a:b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explains the </a:t>
              </a:r>
              <a:br>
                <a:rPr sz="1600"/>
              </a:b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data?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F078-F332-4A63-BB8C-F410D65F8B58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6934320" y="1447920"/>
            <a:ext cx="2133360" cy="5333760"/>
          </a:xfrm>
          <a:prstGeom prst="rect">
            <a:avLst/>
          </a:prstGeom>
          <a:solidFill>
            <a:srgbClr val="b7c1eb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1523880" y="3048120"/>
          <a:ext cx="5181840" cy="3360600"/>
        </p:xfrm>
        <a:graphic>
          <a:graphicData uri="http://schemas.openxmlformats.org/drawingml/2006/table">
            <a:tbl>
              <a:tblPr/>
              <a:tblGrid>
                <a:gridCol w="1295640"/>
                <a:gridCol w="1295280"/>
                <a:gridCol w="1295280"/>
                <a:gridCol w="1295640"/>
              </a:tblGrid>
              <a:tr h="86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892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80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80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1" name=""/>
          <p:cNvSpPr/>
          <p:nvPr/>
        </p:nvSpPr>
        <p:spPr>
          <a:xfrm>
            <a:off x="1917720" y="312408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200400" y="312408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495680" y="312408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791320" y="312408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917720" y="39625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3200400" y="3962520"/>
            <a:ext cx="457200" cy="380880"/>
            <a:chOff x="3200400" y="3962520"/>
            <a:chExt cx="457200" cy="380880"/>
          </a:xfrm>
        </p:grpSpPr>
        <p:sp>
          <p:nvSpPr>
            <p:cNvPr id="617" name=""/>
            <p:cNvSpPr/>
            <p:nvPr/>
          </p:nvSpPr>
          <p:spPr>
            <a:xfrm>
              <a:off x="3200400" y="403884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276720" y="39625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505320" y="4114800"/>
              <a:ext cx="152280" cy="15264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505320" y="403884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429000" y="39625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276720" y="4114800"/>
              <a:ext cx="152280" cy="15264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cc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429000" y="41911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276720" y="41911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352680" y="4038840"/>
              <a:ext cx="228600" cy="2286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4495680" y="39625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917720" y="48769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200400" y="48769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495680" y="4876920"/>
            <a:ext cx="457200" cy="457200"/>
          </a:xfrm>
          <a:prstGeom prst="ellipse">
            <a:avLst/>
          </a:prstGeom>
          <a:solidFill>
            <a:srgbClr val="006301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791320" y="4876920"/>
            <a:ext cx="457200" cy="457200"/>
          </a:xfrm>
          <a:prstGeom prst="ellipse">
            <a:avLst/>
          </a:prstGeom>
          <a:solidFill>
            <a:srgbClr val="006301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17720" y="563868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3200400" y="5638680"/>
            <a:ext cx="457200" cy="380880"/>
            <a:chOff x="3200400" y="5638680"/>
            <a:chExt cx="457200" cy="380880"/>
          </a:xfrm>
        </p:grpSpPr>
        <p:sp>
          <p:nvSpPr>
            <p:cNvPr id="633" name=""/>
            <p:cNvSpPr/>
            <p:nvPr/>
          </p:nvSpPr>
          <p:spPr>
            <a:xfrm>
              <a:off x="3200400" y="571500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276720" y="563868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505320" y="5790960"/>
              <a:ext cx="152280" cy="15264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505320" y="571500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429000" y="563868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276720" y="5790960"/>
              <a:ext cx="152280" cy="15264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cc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429000" y="586728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276720" y="586728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352680" y="5715000"/>
              <a:ext cx="228600" cy="2286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4495680" y="5638680"/>
            <a:ext cx="457200" cy="457200"/>
          </a:xfrm>
          <a:prstGeom prst="ellipse">
            <a:avLst/>
          </a:prstGeom>
          <a:solidFill>
            <a:srgbClr val="006301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5791320" y="5638680"/>
            <a:ext cx="457200" cy="380880"/>
            <a:chOff x="5791320" y="5638680"/>
            <a:chExt cx="457200" cy="380880"/>
          </a:xfrm>
        </p:grpSpPr>
        <p:sp>
          <p:nvSpPr>
            <p:cNvPr id="644" name=""/>
            <p:cNvSpPr/>
            <p:nvPr/>
          </p:nvSpPr>
          <p:spPr>
            <a:xfrm>
              <a:off x="5791320" y="5714640"/>
              <a:ext cx="152280" cy="15264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67280" y="563868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095880" y="579096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095880" y="5714640"/>
              <a:ext cx="152640" cy="15264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019920" y="5638680"/>
              <a:ext cx="15228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867280" y="579096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0063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019920" y="5867280"/>
              <a:ext cx="15228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867280" y="586728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943600" y="5714640"/>
              <a:ext cx="228600" cy="22860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0063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5791320" y="3962520"/>
            <a:ext cx="457200" cy="380880"/>
            <a:chOff x="5791320" y="3962520"/>
            <a:chExt cx="457200" cy="380880"/>
          </a:xfrm>
        </p:grpSpPr>
        <p:sp>
          <p:nvSpPr>
            <p:cNvPr id="654" name=""/>
            <p:cNvSpPr/>
            <p:nvPr/>
          </p:nvSpPr>
          <p:spPr>
            <a:xfrm>
              <a:off x="5791320" y="403884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867640" y="39625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096240" y="4114800"/>
              <a:ext cx="152280" cy="15264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096240" y="403884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019920" y="39625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867640" y="4114800"/>
              <a:ext cx="152280" cy="15264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cc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019920" y="41911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867640" y="41911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943600" y="4038840"/>
              <a:ext cx="228600" cy="2286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ihybrid cros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915480" y="137088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585520" y="137088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802520" y="251388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25520" y="2513880"/>
            <a:ext cx="58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359240" y="251388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717160" y="2529720"/>
            <a:ext cx="5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686520" y="3276000"/>
            <a:ext cx="711000" cy="3065040"/>
            <a:chOff x="686520" y="3276000"/>
            <a:chExt cx="711000" cy="3065040"/>
          </a:xfrm>
        </p:grpSpPr>
        <p:sp>
          <p:nvSpPr>
            <p:cNvPr id="671" name=""/>
            <p:cNvSpPr/>
            <p:nvPr/>
          </p:nvSpPr>
          <p:spPr>
            <a:xfrm>
              <a:off x="686520" y="327600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50600" y="4113720"/>
              <a:ext cx="583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07760" y="49518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70400" y="5790240"/>
              <a:ext cx="54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1524600" y="3412440"/>
            <a:ext cx="124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883960" y="3412440"/>
            <a:ext cx="1113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136040" y="3412440"/>
            <a:ext cx="119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495400" y="341244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588680" y="4250520"/>
            <a:ext cx="1113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948040" y="4250520"/>
            <a:ext cx="98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200120" y="425052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559480" y="4250520"/>
            <a:ext cx="94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545120" y="5088960"/>
            <a:ext cx="119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906280" y="508896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157640" y="5088960"/>
            <a:ext cx="115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516640" y="5088960"/>
            <a:ext cx="102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609200" y="585072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968560" y="5850720"/>
            <a:ext cx="94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221360" y="5850720"/>
            <a:ext cx="102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580720" y="5850720"/>
            <a:ext cx="90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092320" y="137088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219320" y="19051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895480" y="19051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7315200" y="2062440"/>
            <a:ext cx="1670040" cy="769320"/>
            <a:chOff x="7315200" y="2062440"/>
            <a:chExt cx="1670040" cy="769320"/>
          </a:xfrm>
        </p:grpSpPr>
        <p:sp>
          <p:nvSpPr>
            <p:cNvPr id="695" name=""/>
            <p:cNvSpPr/>
            <p:nvPr/>
          </p:nvSpPr>
          <p:spPr>
            <a:xfrm>
              <a:off x="7315200" y="221940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cc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932600" y="2062440"/>
              <a:ext cx="105264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9/16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yellow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round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7315200" y="3304080"/>
            <a:ext cx="1670040" cy="769320"/>
            <a:chOff x="7315200" y="3304080"/>
            <a:chExt cx="1670040" cy="769320"/>
          </a:xfrm>
        </p:grpSpPr>
        <p:sp>
          <p:nvSpPr>
            <p:cNvPr id="698" name=""/>
            <p:cNvSpPr/>
            <p:nvPr/>
          </p:nvSpPr>
          <p:spPr>
            <a:xfrm>
              <a:off x="7315200" y="3461040"/>
              <a:ext cx="457200" cy="45720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932600" y="3304080"/>
              <a:ext cx="105264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3/16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green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round 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7315200" y="4545360"/>
            <a:ext cx="1809720" cy="769320"/>
            <a:chOff x="7315200" y="4545360"/>
            <a:chExt cx="1809720" cy="769320"/>
          </a:xfrm>
        </p:grpSpPr>
        <p:grpSp>
          <p:nvGrpSpPr>
            <p:cNvPr id="701" name=""/>
            <p:cNvGrpSpPr/>
            <p:nvPr/>
          </p:nvGrpSpPr>
          <p:grpSpPr>
            <a:xfrm>
              <a:off x="7315200" y="4740120"/>
              <a:ext cx="457200" cy="380880"/>
              <a:chOff x="7315200" y="4740120"/>
              <a:chExt cx="457200" cy="380880"/>
            </a:xfrm>
          </p:grpSpPr>
          <p:sp>
            <p:nvSpPr>
              <p:cNvPr id="702" name=""/>
              <p:cNvSpPr/>
              <p:nvPr/>
            </p:nvSpPr>
            <p:spPr>
              <a:xfrm>
                <a:off x="7315200" y="481644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391520" y="47401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620120" y="4892400"/>
                <a:ext cx="152280" cy="15264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620120" y="481644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543800" y="47401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91520" y="4892400"/>
                <a:ext cx="152280" cy="15264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543800" y="49687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391520" y="49687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467480" y="4816440"/>
                <a:ext cx="228600" cy="22860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ffea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711" name=""/>
            <p:cNvSpPr/>
            <p:nvPr/>
          </p:nvSpPr>
          <p:spPr>
            <a:xfrm>
              <a:off x="7792920" y="4545360"/>
              <a:ext cx="133200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3/16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yellow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wrinkled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7315200" y="5788440"/>
            <a:ext cx="1809720" cy="769320"/>
            <a:chOff x="7315200" y="5788440"/>
            <a:chExt cx="1809720" cy="769320"/>
          </a:xfrm>
        </p:grpSpPr>
        <p:grpSp>
          <p:nvGrpSpPr>
            <p:cNvPr id="713" name=""/>
            <p:cNvGrpSpPr/>
            <p:nvPr/>
          </p:nvGrpSpPr>
          <p:grpSpPr>
            <a:xfrm>
              <a:off x="7315200" y="5983200"/>
              <a:ext cx="457200" cy="380880"/>
              <a:chOff x="7315200" y="5983200"/>
              <a:chExt cx="457200" cy="380880"/>
            </a:xfrm>
          </p:grpSpPr>
          <p:sp>
            <p:nvSpPr>
              <p:cNvPr id="714" name=""/>
              <p:cNvSpPr/>
              <p:nvPr/>
            </p:nvSpPr>
            <p:spPr>
              <a:xfrm>
                <a:off x="7315200" y="6059160"/>
                <a:ext cx="152280" cy="15264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391160" y="598320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619760" y="613548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619760" y="6059160"/>
                <a:ext cx="152640" cy="15264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543800" y="5983200"/>
                <a:ext cx="15228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391160" y="613548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0063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543800" y="6211800"/>
                <a:ext cx="15228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391160" y="621180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467480" y="6059160"/>
                <a:ext cx="228600" cy="22860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0063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723" name=""/>
            <p:cNvSpPr/>
            <p:nvPr/>
          </p:nvSpPr>
          <p:spPr>
            <a:xfrm>
              <a:off x="7792920" y="5788440"/>
              <a:ext cx="133200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1/16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green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wrinkled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3D2B-971C-4E54-8A55-934557A41122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500"/>
                            </p:stCondLst>
                            <p:childTnLst>
                              <p:par>
                                <p:cTn id="4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350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65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80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950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25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5500"/>
                            </p:stCondLst>
                            <p:childTnLst>
                              <p:par>
                                <p:cTn id="4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700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0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500"/>
                            </p:stCondLst>
                            <p:childTnLst>
                              <p:par>
                                <p:cTn id="56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000"/>
                            </p:stCondLst>
                            <p:childTnLst>
                              <p:par>
                                <p:cTn id="5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endel’s laws of heredity (#2)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aw of independent assortmen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ach pair of alleles segregates into gametes independently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4 classes of gametes are produced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in equal amount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YR, Yr, yR, yr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only true for genes on separate chromosom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5488920" y="5419440"/>
            <a:ext cx="2661120" cy="605160"/>
            <a:chOff x="5488920" y="5419440"/>
            <a:chExt cx="2661120" cy="605160"/>
          </a:xfrm>
        </p:grpSpPr>
        <p:sp>
          <p:nvSpPr>
            <p:cNvPr id="728" name=""/>
            <p:cNvSpPr/>
            <p:nvPr/>
          </p:nvSpPr>
          <p:spPr>
            <a:xfrm rot="1800000">
              <a:off x="7543080" y="5562000"/>
              <a:ext cx="609480" cy="152280"/>
            </a:xfrm>
            <a:prstGeom prst="rightArrow">
              <a:avLst>
                <a:gd name="adj1" fmla="val 50000"/>
                <a:gd name="adj2" fmla="val 100059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 rot="3600000">
              <a:off x="6828840" y="5645520"/>
              <a:ext cx="609480" cy="151920"/>
            </a:xfrm>
            <a:prstGeom prst="rightArrow">
              <a:avLst>
                <a:gd name="adj1" fmla="val 50000"/>
                <a:gd name="adj2" fmla="val 100296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rot="7200000">
              <a:off x="6198480" y="5646240"/>
              <a:ext cx="609480" cy="152280"/>
            </a:xfrm>
            <a:prstGeom prst="rightArrow">
              <a:avLst>
                <a:gd name="adj1" fmla="val 50000"/>
                <a:gd name="adj2" fmla="val 100059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 rot="9000000">
              <a:off x="5486040" y="5561280"/>
              <a:ext cx="609480" cy="152280"/>
            </a:xfrm>
            <a:prstGeom prst="rightArrow">
              <a:avLst>
                <a:gd name="adj1" fmla="val 50000"/>
                <a:gd name="adj2" fmla="val 100059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32" name=""/>
          <p:cNvSpPr/>
          <p:nvPr/>
        </p:nvSpPr>
        <p:spPr>
          <a:xfrm>
            <a:off x="6284880" y="4495680"/>
            <a:ext cx="1066680" cy="1067040"/>
          </a:xfrm>
          <a:prstGeom prst="ellipse">
            <a:avLst/>
          </a:prstGeom>
          <a:solidFill>
            <a:srgbClr val="6f89f7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800600" y="6019920"/>
            <a:ext cx="838080" cy="838080"/>
          </a:xfrm>
          <a:prstGeom prst="ellipse">
            <a:avLst/>
          </a:prstGeom>
          <a:solidFill>
            <a:srgbClr val="6f89f7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892840" y="6019920"/>
            <a:ext cx="838080" cy="838080"/>
          </a:xfrm>
          <a:prstGeom prst="ellipse">
            <a:avLst/>
          </a:prstGeom>
          <a:solidFill>
            <a:srgbClr val="6f89f7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985080" y="6019920"/>
            <a:ext cx="838080" cy="838080"/>
          </a:xfrm>
          <a:prstGeom prst="ellipse">
            <a:avLst/>
          </a:prstGeom>
          <a:solidFill>
            <a:srgbClr val="6f89f7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8077320" y="6019920"/>
            <a:ext cx="838080" cy="838080"/>
          </a:xfrm>
          <a:prstGeom prst="ellipse">
            <a:avLst/>
          </a:prstGeom>
          <a:solidFill>
            <a:srgbClr val="6f89f7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629400" y="4572000"/>
            <a:ext cx="76320" cy="304920"/>
          </a:xfrm>
          <a:custGeom>
            <a:avLst/>
            <a:gdLst/>
            <a:ahLst/>
            <a:rect l="l" t="t" r="r" b="b"/>
            <a:pathLst>
              <a:path w="48" h="192">
                <a:moveTo>
                  <a:pt x="0" y="0"/>
                </a:moveTo>
                <a:cubicBezTo>
                  <a:pt x="24" y="32"/>
                  <a:pt x="48" y="64"/>
                  <a:pt x="48" y="96"/>
                </a:cubicBezTo>
                <a:cubicBezTo>
                  <a:pt x="48" y="128"/>
                  <a:pt x="8" y="176"/>
                  <a:pt x="0" y="192"/>
                </a:cubicBezTo>
              </a:path>
            </a:pathLst>
          </a:custGeom>
          <a:noFill/>
          <a:ln w="57240">
            <a:solidFill>
              <a:srgbClr val="ffea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858000" y="4572000"/>
            <a:ext cx="76320" cy="304920"/>
          </a:xfrm>
          <a:custGeom>
            <a:avLst/>
            <a:gdLst/>
            <a:ahLst/>
            <a:rect l="l" t="t" r="r" b="b"/>
            <a:pathLst>
              <a:path w="48" h="192">
                <a:moveTo>
                  <a:pt x="0" y="0"/>
                </a:moveTo>
                <a:cubicBezTo>
                  <a:pt x="24" y="32"/>
                  <a:pt x="48" y="64"/>
                  <a:pt x="48" y="96"/>
                </a:cubicBezTo>
                <a:cubicBezTo>
                  <a:pt x="48" y="128"/>
                  <a:pt x="8" y="176"/>
                  <a:pt x="0" y="192"/>
                </a:cubicBezTo>
              </a:path>
            </a:pathLst>
          </a:custGeom>
          <a:noFill/>
          <a:ln w="57240">
            <a:solidFill>
              <a:srgbClr val="0063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705720" y="4952880"/>
            <a:ext cx="114120" cy="457200"/>
          </a:xfrm>
          <a:custGeom>
            <a:avLst/>
            <a:gdLst/>
            <a:ahLst/>
            <a:rect l="l" t="t" r="r" b="b"/>
            <a:pathLst>
              <a:path w="48" h="192">
                <a:moveTo>
                  <a:pt x="0" y="0"/>
                </a:moveTo>
                <a:cubicBezTo>
                  <a:pt x="24" y="32"/>
                  <a:pt x="48" y="64"/>
                  <a:pt x="48" y="96"/>
                </a:cubicBezTo>
                <a:cubicBezTo>
                  <a:pt x="48" y="128"/>
                  <a:pt x="8" y="176"/>
                  <a:pt x="0" y="192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105520" y="6248520"/>
            <a:ext cx="75960" cy="304560"/>
          </a:xfrm>
          <a:custGeom>
            <a:avLst/>
            <a:gdLst/>
            <a:ahLst/>
            <a:rect l="l" t="t" r="r" b="b"/>
            <a:pathLst>
              <a:path w="48" h="192">
                <a:moveTo>
                  <a:pt x="0" y="0"/>
                </a:moveTo>
                <a:cubicBezTo>
                  <a:pt x="24" y="32"/>
                  <a:pt x="48" y="64"/>
                  <a:pt x="48" y="96"/>
                </a:cubicBezTo>
                <a:cubicBezTo>
                  <a:pt x="48" y="128"/>
                  <a:pt x="8" y="176"/>
                  <a:pt x="0" y="192"/>
                </a:cubicBezTo>
              </a:path>
            </a:pathLst>
          </a:custGeom>
          <a:noFill/>
          <a:ln w="57240">
            <a:solidFill>
              <a:srgbClr val="ffea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238880" y="6324480"/>
            <a:ext cx="76320" cy="304920"/>
          </a:xfrm>
          <a:custGeom>
            <a:avLst/>
            <a:gdLst/>
            <a:ahLst/>
            <a:rect l="l" t="t" r="r" b="b"/>
            <a:pathLst>
              <a:path w="48" h="192">
                <a:moveTo>
                  <a:pt x="0" y="0"/>
                </a:moveTo>
                <a:cubicBezTo>
                  <a:pt x="24" y="32"/>
                  <a:pt x="48" y="64"/>
                  <a:pt x="48" y="96"/>
                </a:cubicBezTo>
                <a:cubicBezTo>
                  <a:pt x="48" y="128"/>
                  <a:pt x="8" y="176"/>
                  <a:pt x="0" y="192"/>
                </a:cubicBezTo>
              </a:path>
            </a:pathLst>
          </a:custGeom>
          <a:noFill/>
          <a:ln w="57240">
            <a:solidFill>
              <a:srgbClr val="0063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334120" y="6172200"/>
            <a:ext cx="114120" cy="457200"/>
          </a:xfrm>
          <a:custGeom>
            <a:avLst/>
            <a:gdLst/>
            <a:ahLst/>
            <a:rect l="l" t="t" r="r" b="b"/>
            <a:pathLst>
              <a:path w="48" h="192">
                <a:moveTo>
                  <a:pt x="0" y="0"/>
                </a:moveTo>
                <a:cubicBezTo>
                  <a:pt x="24" y="32"/>
                  <a:pt x="48" y="64"/>
                  <a:pt x="48" y="96"/>
                </a:cubicBezTo>
                <a:cubicBezTo>
                  <a:pt x="48" y="128"/>
                  <a:pt x="8" y="176"/>
                  <a:pt x="0" y="192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172200" y="6324480"/>
            <a:ext cx="76320" cy="304920"/>
          </a:xfrm>
          <a:custGeom>
            <a:avLst/>
            <a:gdLst/>
            <a:ahLst/>
            <a:rect l="l" t="t" r="r" b="b"/>
            <a:pathLst>
              <a:path w="48" h="192">
                <a:moveTo>
                  <a:pt x="0" y="0"/>
                </a:moveTo>
                <a:cubicBezTo>
                  <a:pt x="24" y="32"/>
                  <a:pt x="48" y="64"/>
                  <a:pt x="48" y="96"/>
                </a:cubicBezTo>
                <a:cubicBezTo>
                  <a:pt x="48" y="128"/>
                  <a:pt x="8" y="176"/>
                  <a:pt x="0" y="192"/>
                </a:cubicBezTo>
              </a:path>
            </a:pathLst>
          </a:custGeom>
          <a:noFill/>
          <a:ln w="57240">
            <a:solidFill>
              <a:srgbClr val="ffea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400800" y="6248520"/>
            <a:ext cx="114480" cy="457200"/>
          </a:xfrm>
          <a:custGeom>
            <a:avLst/>
            <a:gdLst/>
            <a:ahLst/>
            <a:rect l="l" t="t" r="r" b="b"/>
            <a:pathLst>
              <a:path w="48" h="192">
                <a:moveTo>
                  <a:pt x="0" y="0"/>
                </a:moveTo>
                <a:cubicBezTo>
                  <a:pt x="24" y="32"/>
                  <a:pt x="48" y="64"/>
                  <a:pt x="48" y="96"/>
                </a:cubicBezTo>
                <a:cubicBezTo>
                  <a:pt x="48" y="128"/>
                  <a:pt x="8" y="176"/>
                  <a:pt x="0" y="192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8305920" y="6324480"/>
            <a:ext cx="75960" cy="304920"/>
          </a:xfrm>
          <a:custGeom>
            <a:avLst/>
            <a:gdLst/>
            <a:ahLst/>
            <a:rect l="l" t="t" r="r" b="b"/>
            <a:pathLst>
              <a:path w="48" h="192">
                <a:moveTo>
                  <a:pt x="0" y="0"/>
                </a:moveTo>
                <a:cubicBezTo>
                  <a:pt x="24" y="32"/>
                  <a:pt x="48" y="64"/>
                  <a:pt x="48" y="96"/>
                </a:cubicBezTo>
                <a:cubicBezTo>
                  <a:pt x="48" y="128"/>
                  <a:pt x="8" y="176"/>
                  <a:pt x="0" y="192"/>
                </a:cubicBezTo>
              </a:path>
            </a:pathLst>
          </a:custGeom>
          <a:noFill/>
          <a:ln w="57240">
            <a:solidFill>
              <a:srgbClr val="0063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934320" y="4952880"/>
            <a:ext cx="75960" cy="457200"/>
          </a:xfrm>
          <a:custGeom>
            <a:avLst/>
            <a:gdLst/>
            <a:ahLst/>
            <a:rect l="l" t="t" r="r" b="b"/>
            <a:pathLst>
              <a:path w="72" h="331">
                <a:moveTo>
                  <a:pt x="0" y="0"/>
                </a:moveTo>
                <a:cubicBezTo>
                  <a:pt x="12" y="18"/>
                  <a:pt x="21" y="15"/>
                  <a:pt x="34" y="34"/>
                </a:cubicBezTo>
                <a:cubicBezTo>
                  <a:pt x="27" y="43"/>
                  <a:pt x="14" y="47"/>
                  <a:pt x="10" y="58"/>
                </a:cubicBezTo>
                <a:cubicBezTo>
                  <a:pt x="2" y="74"/>
                  <a:pt x="37" y="89"/>
                  <a:pt x="48" y="96"/>
                </a:cubicBezTo>
                <a:cubicBezTo>
                  <a:pt x="51" y="105"/>
                  <a:pt x="63" y="116"/>
                  <a:pt x="58" y="125"/>
                </a:cubicBezTo>
                <a:cubicBezTo>
                  <a:pt x="44" y="144"/>
                  <a:pt x="31" y="160"/>
                  <a:pt x="24" y="182"/>
                </a:cubicBezTo>
                <a:cubicBezTo>
                  <a:pt x="36" y="201"/>
                  <a:pt x="50" y="220"/>
                  <a:pt x="62" y="240"/>
                </a:cubicBezTo>
                <a:cubicBezTo>
                  <a:pt x="60" y="244"/>
                  <a:pt x="61" y="250"/>
                  <a:pt x="58" y="254"/>
                </a:cubicBezTo>
                <a:cubicBezTo>
                  <a:pt x="49" y="262"/>
                  <a:pt x="29" y="273"/>
                  <a:pt x="29" y="273"/>
                </a:cubicBezTo>
                <a:cubicBezTo>
                  <a:pt x="32" y="286"/>
                  <a:pt x="32" y="297"/>
                  <a:pt x="43" y="307"/>
                </a:cubicBezTo>
                <a:cubicBezTo>
                  <a:pt x="51" y="314"/>
                  <a:pt x="72" y="317"/>
                  <a:pt x="72" y="331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467480" y="6172200"/>
            <a:ext cx="76320" cy="457200"/>
          </a:xfrm>
          <a:custGeom>
            <a:avLst/>
            <a:gdLst/>
            <a:ahLst/>
            <a:rect l="l" t="t" r="r" b="b"/>
            <a:pathLst>
              <a:path w="72" h="331">
                <a:moveTo>
                  <a:pt x="0" y="0"/>
                </a:moveTo>
                <a:cubicBezTo>
                  <a:pt x="12" y="18"/>
                  <a:pt x="21" y="15"/>
                  <a:pt x="34" y="34"/>
                </a:cubicBezTo>
                <a:cubicBezTo>
                  <a:pt x="27" y="43"/>
                  <a:pt x="14" y="47"/>
                  <a:pt x="10" y="58"/>
                </a:cubicBezTo>
                <a:cubicBezTo>
                  <a:pt x="2" y="74"/>
                  <a:pt x="37" y="89"/>
                  <a:pt x="48" y="96"/>
                </a:cubicBezTo>
                <a:cubicBezTo>
                  <a:pt x="51" y="105"/>
                  <a:pt x="63" y="116"/>
                  <a:pt x="58" y="125"/>
                </a:cubicBezTo>
                <a:cubicBezTo>
                  <a:pt x="44" y="144"/>
                  <a:pt x="31" y="160"/>
                  <a:pt x="24" y="182"/>
                </a:cubicBezTo>
                <a:cubicBezTo>
                  <a:pt x="36" y="201"/>
                  <a:pt x="50" y="220"/>
                  <a:pt x="62" y="240"/>
                </a:cubicBezTo>
                <a:cubicBezTo>
                  <a:pt x="60" y="244"/>
                  <a:pt x="61" y="250"/>
                  <a:pt x="58" y="254"/>
                </a:cubicBezTo>
                <a:cubicBezTo>
                  <a:pt x="49" y="262"/>
                  <a:pt x="29" y="273"/>
                  <a:pt x="29" y="273"/>
                </a:cubicBezTo>
                <a:cubicBezTo>
                  <a:pt x="32" y="286"/>
                  <a:pt x="32" y="297"/>
                  <a:pt x="43" y="307"/>
                </a:cubicBezTo>
                <a:cubicBezTo>
                  <a:pt x="51" y="314"/>
                  <a:pt x="72" y="317"/>
                  <a:pt x="72" y="331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8534520" y="6172200"/>
            <a:ext cx="75960" cy="457200"/>
          </a:xfrm>
          <a:custGeom>
            <a:avLst/>
            <a:gdLst/>
            <a:ahLst/>
            <a:rect l="l" t="t" r="r" b="b"/>
            <a:pathLst>
              <a:path w="72" h="331">
                <a:moveTo>
                  <a:pt x="0" y="0"/>
                </a:moveTo>
                <a:cubicBezTo>
                  <a:pt x="12" y="18"/>
                  <a:pt x="21" y="15"/>
                  <a:pt x="34" y="34"/>
                </a:cubicBezTo>
                <a:cubicBezTo>
                  <a:pt x="27" y="43"/>
                  <a:pt x="14" y="47"/>
                  <a:pt x="10" y="58"/>
                </a:cubicBezTo>
                <a:cubicBezTo>
                  <a:pt x="2" y="74"/>
                  <a:pt x="37" y="89"/>
                  <a:pt x="48" y="96"/>
                </a:cubicBezTo>
                <a:cubicBezTo>
                  <a:pt x="51" y="105"/>
                  <a:pt x="63" y="116"/>
                  <a:pt x="58" y="125"/>
                </a:cubicBezTo>
                <a:cubicBezTo>
                  <a:pt x="44" y="144"/>
                  <a:pt x="31" y="160"/>
                  <a:pt x="24" y="182"/>
                </a:cubicBezTo>
                <a:cubicBezTo>
                  <a:pt x="36" y="201"/>
                  <a:pt x="50" y="220"/>
                  <a:pt x="62" y="240"/>
                </a:cubicBezTo>
                <a:cubicBezTo>
                  <a:pt x="60" y="244"/>
                  <a:pt x="61" y="250"/>
                  <a:pt x="58" y="254"/>
                </a:cubicBezTo>
                <a:cubicBezTo>
                  <a:pt x="49" y="262"/>
                  <a:pt x="29" y="273"/>
                  <a:pt x="29" y="273"/>
                </a:cubicBezTo>
                <a:cubicBezTo>
                  <a:pt x="32" y="286"/>
                  <a:pt x="32" y="297"/>
                  <a:pt x="43" y="307"/>
                </a:cubicBezTo>
                <a:cubicBezTo>
                  <a:pt x="51" y="314"/>
                  <a:pt x="72" y="317"/>
                  <a:pt x="72" y="331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956880" y="5419440"/>
            <a:ext cx="2661480" cy="605160"/>
            <a:chOff x="956880" y="5419440"/>
            <a:chExt cx="2661480" cy="605160"/>
          </a:xfrm>
        </p:grpSpPr>
        <p:sp>
          <p:nvSpPr>
            <p:cNvPr id="750" name=""/>
            <p:cNvSpPr/>
            <p:nvPr/>
          </p:nvSpPr>
          <p:spPr>
            <a:xfrm rot="1800000">
              <a:off x="3011040" y="5562360"/>
              <a:ext cx="609840" cy="152280"/>
            </a:xfrm>
            <a:prstGeom prst="rightArrow">
              <a:avLst>
                <a:gd name="adj1" fmla="val 50000"/>
                <a:gd name="adj2" fmla="val 100118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 rot="3600000">
              <a:off x="2296800" y="5646240"/>
              <a:ext cx="609480" cy="151920"/>
            </a:xfrm>
            <a:prstGeom prst="rightArrow">
              <a:avLst>
                <a:gd name="adj1" fmla="val 50000"/>
                <a:gd name="adj2" fmla="val 100296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rot="7200000">
              <a:off x="1666800" y="5646240"/>
              <a:ext cx="609480" cy="152640"/>
            </a:xfrm>
            <a:prstGeom prst="rightArrow">
              <a:avLst>
                <a:gd name="adj1" fmla="val 50000"/>
                <a:gd name="adj2" fmla="val 99823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 rot="9000000">
              <a:off x="953640" y="5561280"/>
              <a:ext cx="609840" cy="151920"/>
            </a:xfrm>
            <a:prstGeom prst="rightArrow">
              <a:avLst>
                <a:gd name="adj1" fmla="val 50000"/>
                <a:gd name="adj2" fmla="val 100355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54" name=""/>
          <p:cNvSpPr/>
          <p:nvPr/>
        </p:nvSpPr>
        <p:spPr>
          <a:xfrm>
            <a:off x="1752480" y="4495680"/>
            <a:ext cx="1067040" cy="1067040"/>
          </a:xfrm>
          <a:prstGeom prst="ellipse">
            <a:avLst/>
          </a:prstGeom>
          <a:solidFill>
            <a:srgbClr val="6f89f7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68200" y="6019920"/>
            <a:ext cx="838440" cy="838080"/>
          </a:xfrm>
          <a:prstGeom prst="ellipse">
            <a:avLst/>
          </a:prstGeom>
          <a:solidFill>
            <a:srgbClr val="6f89f7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360440" y="6019920"/>
            <a:ext cx="838080" cy="838080"/>
          </a:xfrm>
          <a:prstGeom prst="ellipse">
            <a:avLst/>
          </a:prstGeom>
          <a:solidFill>
            <a:srgbClr val="6f89f7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452680" y="6019920"/>
            <a:ext cx="838080" cy="838080"/>
          </a:xfrm>
          <a:prstGeom prst="ellipse">
            <a:avLst/>
          </a:prstGeom>
          <a:solidFill>
            <a:srgbClr val="6f89f7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544920" y="6019920"/>
            <a:ext cx="838080" cy="838080"/>
          </a:xfrm>
          <a:prstGeom prst="ellipse">
            <a:avLst/>
          </a:prstGeom>
          <a:solidFill>
            <a:srgbClr val="6f89f7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097000" y="4572000"/>
            <a:ext cx="76320" cy="304920"/>
          </a:xfrm>
          <a:custGeom>
            <a:avLst/>
            <a:gdLst/>
            <a:ahLst/>
            <a:rect l="l" t="t" r="r" b="b"/>
            <a:pathLst>
              <a:path w="48" h="192">
                <a:moveTo>
                  <a:pt x="0" y="0"/>
                </a:moveTo>
                <a:cubicBezTo>
                  <a:pt x="24" y="32"/>
                  <a:pt x="48" y="64"/>
                  <a:pt x="48" y="96"/>
                </a:cubicBezTo>
                <a:cubicBezTo>
                  <a:pt x="48" y="128"/>
                  <a:pt x="8" y="176"/>
                  <a:pt x="0" y="192"/>
                </a:cubicBezTo>
              </a:path>
            </a:pathLst>
          </a:custGeom>
          <a:noFill/>
          <a:ln w="57240">
            <a:solidFill>
              <a:srgbClr val="ffea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325600" y="4572000"/>
            <a:ext cx="76320" cy="304920"/>
          </a:xfrm>
          <a:custGeom>
            <a:avLst/>
            <a:gdLst/>
            <a:ahLst/>
            <a:rect l="l" t="t" r="r" b="b"/>
            <a:pathLst>
              <a:path w="48" h="192">
                <a:moveTo>
                  <a:pt x="0" y="0"/>
                </a:moveTo>
                <a:cubicBezTo>
                  <a:pt x="24" y="32"/>
                  <a:pt x="48" y="64"/>
                  <a:pt x="48" y="96"/>
                </a:cubicBezTo>
                <a:cubicBezTo>
                  <a:pt x="48" y="128"/>
                  <a:pt x="8" y="176"/>
                  <a:pt x="0" y="192"/>
                </a:cubicBezTo>
              </a:path>
            </a:pathLst>
          </a:custGeom>
          <a:noFill/>
          <a:ln w="57240">
            <a:solidFill>
              <a:srgbClr val="0063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362320" y="4952880"/>
            <a:ext cx="114120" cy="457200"/>
          </a:xfrm>
          <a:custGeom>
            <a:avLst/>
            <a:gdLst/>
            <a:ahLst/>
            <a:rect l="l" t="t" r="r" b="b"/>
            <a:pathLst>
              <a:path w="48" h="192">
                <a:moveTo>
                  <a:pt x="0" y="0"/>
                </a:moveTo>
                <a:cubicBezTo>
                  <a:pt x="24" y="32"/>
                  <a:pt x="48" y="64"/>
                  <a:pt x="48" y="96"/>
                </a:cubicBezTo>
                <a:cubicBezTo>
                  <a:pt x="48" y="128"/>
                  <a:pt x="8" y="176"/>
                  <a:pt x="0" y="192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73120" y="6248520"/>
            <a:ext cx="76320" cy="304560"/>
          </a:xfrm>
          <a:custGeom>
            <a:avLst/>
            <a:gdLst/>
            <a:ahLst/>
            <a:rect l="l" t="t" r="r" b="b"/>
            <a:pathLst>
              <a:path w="48" h="192">
                <a:moveTo>
                  <a:pt x="0" y="0"/>
                </a:moveTo>
                <a:cubicBezTo>
                  <a:pt x="24" y="32"/>
                  <a:pt x="48" y="64"/>
                  <a:pt x="48" y="96"/>
                </a:cubicBezTo>
                <a:cubicBezTo>
                  <a:pt x="48" y="128"/>
                  <a:pt x="8" y="176"/>
                  <a:pt x="0" y="192"/>
                </a:cubicBezTo>
              </a:path>
            </a:pathLst>
          </a:custGeom>
          <a:noFill/>
          <a:ln w="57240">
            <a:solidFill>
              <a:srgbClr val="ffea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706840" y="6324480"/>
            <a:ext cx="75960" cy="304920"/>
          </a:xfrm>
          <a:custGeom>
            <a:avLst/>
            <a:gdLst/>
            <a:ahLst/>
            <a:rect l="l" t="t" r="r" b="b"/>
            <a:pathLst>
              <a:path w="48" h="192">
                <a:moveTo>
                  <a:pt x="0" y="0"/>
                </a:moveTo>
                <a:cubicBezTo>
                  <a:pt x="24" y="32"/>
                  <a:pt x="48" y="64"/>
                  <a:pt x="48" y="96"/>
                </a:cubicBezTo>
                <a:cubicBezTo>
                  <a:pt x="48" y="128"/>
                  <a:pt x="8" y="176"/>
                  <a:pt x="0" y="192"/>
                </a:cubicBezTo>
              </a:path>
            </a:pathLst>
          </a:custGeom>
          <a:noFill/>
          <a:ln w="57240">
            <a:solidFill>
              <a:srgbClr val="0063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39800" y="6324480"/>
            <a:ext cx="76320" cy="304920"/>
          </a:xfrm>
          <a:custGeom>
            <a:avLst/>
            <a:gdLst/>
            <a:ahLst/>
            <a:rect l="l" t="t" r="r" b="b"/>
            <a:pathLst>
              <a:path w="48" h="192">
                <a:moveTo>
                  <a:pt x="0" y="0"/>
                </a:moveTo>
                <a:cubicBezTo>
                  <a:pt x="24" y="32"/>
                  <a:pt x="48" y="64"/>
                  <a:pt x="48" y="96"/>
                </a:cubicBezTo>
                <a:cubicBezTo>
                  <a:pt x="48" y="128"/>
                  <a:pt x="8" y="176"/>
                  <a:pt x="0" y="192"/>
                </a:cubicBezTo>
              </a:path>
            </a:pathLst>
          </a:custGeom>
          <a:noFill/>
          <a:ln w="57240">
            <a:solidFill>
              <a:srgbClr val="ffea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935440" y="6172200"/>
            <a:ext cx="114120" cy="457200"/>
          </a:xfrm>
          <a:custGeom>
            <a:avLst/>
            <a:gdLst/>
            <a:ahLst/>
            <a:rect l="l" t="t" r="r" b="b"/>
            <a:pathLst>
              <a:path w="48" h="192">
                <a:moveTo>
                  <a:pt x="0" y="0"/>
                </a:moveTo>
                <a:cubicBezTo>
                  <a:pt x="24" y="32"/>
                  <a:pt x="48" y="64"/>
                  <a:pt x="48" y="96"/>
                </a:cubicBezTo>
                <a:cubicBezTo>
                  <a:pt x="48" y="128"/>
                  <a:pt x="8" y="176"/>
                  <a:pt x="0" y="192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773520" y="6324480"/>
            <a:ext cx="76320" cy="304920"/>
          </a:xfrm>
          <a:custGeom>
            <a:avLst/>
            <a:gdLst/>
            <a:ahLst/>
            <a:rect l="l" t="t" r="r" b="b"/>
            <a:pathLst>
              <a:path w="48" h="192">
                <a:moveTo>
                  <a:pt x="0" y="0"/>
                </a:moveTo>
                <a:cubicBezTo>
                  <a:pt x="24" y="32"/>
                  <a:pt x="48" y="64"/>
                  <a:pt x="48" y="96"/>
                </a:cubicBezTo>
                <a:cubicBezTo>
                  <a:pt x="48" y="128"/>
                  <a:pt x="8" y="176"/>
                  <a:pt x="0" y="192"/>
                </a:cubicBezTo>
              </a:path>
            </a:pathLst>
          </a:custGeom>
          <a:noFill/>
          <a:ln w="57240">
            <a:solidFill>
              <a:srgbClr val="0063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133720" y="4952880"/>
            <a:ext cx="75960" cy="457200"/>
          </a:xfrm>
          <a:custGeom>
            <a:avLst/>
            <a:gdLst/>
            <a:ahLst/>
            <a:rect l="l" t="t" r="r" b="b"/>
            <a:pathLst>
              <a:path w="72" h="331">
                <a:moveTo>
                  <a:pt x="0" y="0"/>
                </a:moveTo>
                <a:cubicBezTo>
                  <a:pt x="12" y="18"/>
                  <a:pt x="21" y="15"/>
                  <a:pt x="34" y="34"/>
                </a:cubicBezTo>
                <a:cubicBezTo>
                  <a:pt x="27" y="43"/>
                  <a:pt x="14" y="47"/>
                  <a:pt x="10" y="58"/>
                </a:cubicBezTo>
                <a:cubicBezTo>
                  <a:pt x="2" y="74"/>
                  <a:pt x="37" y="89"/>
                  <a:pt x="48" y="96"/>
                </a:cubicBezTo>
                <a:cubicBezTo>
                  <a:pt x="51" y="105"/>
                  <a:pt x="63" y="116"/>
                  <a:pt x="58" y="125"/>
                </a:cubicBezTo>
                <a:cubicBezTo>
                  <a:pt x="44" y="144"/>
                  <a:pt x="31" y="160"/>
                  <a:pt x="24" y="182"/>
                </a:cubicBezTo>
                <a:cubicBezTo>
                  <a:pt x="36" y="201"/>
                  <a:pt x="50" y="220"/>
                  <a:pt x="62" y="240"/>
                </a:cubicBezTo>
                <a:cubicBezTo>
                  <a:pt x="60" y="244"/>
                  <a:pt x="61" y="250"/>
                  <a:pt x="58" y="254"/>
                </a:cubicBezTo>
                <a:cubicBezTo>
                  <a:pt x="49" y="262"/>
                  <a:pt x="29" y="273"/>
                  <a:pt x="29" y="273"/>
                </a:cubicBezTo>
                <a:cubicBezTo>
                  <a:pt x="32" y="286"/>
                  <a:pt x="32" y="297"/>
                  <a:pt x="43" y="307"/>
                </a:cubicBezTo>
                <a:cubicBezTo>
                  <a:pt x="51" y="314"/>
                  <a:pt x="72" y="317"/>
                  <a:pt x="72" y="331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868400" y="6172200"/>
            <a:ext cx="76320" cy="457200"/>
          </a:xfrm>
          <a:custGeom>
            <a:avLst/>
            <a:gdLst/>
            <a:ahLst/>
            <a:rect l="l" t="t" r="r" b="b"/>
            <a:pathLst>
              <a:path w="72" h="331">
                <a:moveTo>
                  <a:pt x="0" y="0"/>
                </a:moveTo>
                <a:cubicBezTo>
                  <a:pt x="12" y="18"/>
                  <a:pt x="21" y="15"/>
                  <a:pt x="34" y="34"/>
                </a:cubicBezTo>
                <a:cubicBezTo>
                  <a:pt x="27" y="43"/>
                  <a:pt x="14" y="47"/>
                  <a:pt x="10" y="58"/>
                </a:cubicBezTo>
                <a:cubicBezTo>
                  <a:pt x="2" y="74"/>
                  <a:pt x="37" y="89"/>
                  <a:pt x="48" y="96"/>
                </a:cubicBezTo>
                <a:cubicBezTo>
                  <a:pt x="51" y="105"/>
                  <a:pt x="63" y="116"/>
                  <a:pt x="58" y="125"/>
                </a:cubicBezTo>
                <a:cubicBezTo>
                  <a:pt x="44" y="144"/>
                  <a:pt x="31" y="160"/>
                  <a:pt x="24" y="182"/>
                </a:cubicBezTo>
                <a:cubicBezTo>
                  <a:pt x="36" y="201"/>
                  <a:pt x="50" y="220"/>
                  <a:pt x="62" y="240"/>
                </a:cubicBezTo>
                <a:cubicBezTo>
                  <a:pt x="60" y="244"/>
                  <a:pt x="61" y="250"/>
                  <a:pt x="58" y="254"/>
                </a:cubicBezTo>
                <a:cubicBezTo>
                  <a:pt x="49" y="262"/>
                  <a:pt x="29" y="273"/>
                  <a:pt x="29" y="273"/>
                </a:cubicBezTo>
                <a:cubicBezTo>
                  <a:pt x="32" y="286"/>
                  <a:pt x="32" y="297"/>
                  <a:pt x="43" y="307"/>
                </a:cubicBezTo>
                <a:cubicBezTo>
                  <a:pt x="51" y="314"/>
                  <a:pt x="72" y="317"/>
                  <a:pt x="72" y="331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62120" y="6172200"/>
            <a:ext cx="75960" cy="457200"/>
          </a:xfrm>
          <a:custGeom>
            <a:avLst/>
            <a:gdLst/>
            <a:ahLst/>
            <a:rect l="l" t="t" r="r" b="b"/>
            <a:pathLst>
              <a:path w="72" h="331">
                <a:moveTo>
                  <a:pt x="0" y="0"/>
                </a:moveTo>
                <a:cubicBezTo>
                  <a:pt x="12" y="18"/>
                  <a:pt x="21" y="15"/>
                  <a:pt x="34" y="34"/>
                </a:cubicBezTo>
                <a:cubicBezTo>
                  <a:pt x="27" y="43"/>
                  <a:pt x="14" y="47"/>
                  <a:pt x="10" y="58"/>
                </a:cubicBezTo>
                <a:cubicBezTo>
                  <a:pt x="2" y="74"/>
                  <a:pt x="37" y="89"/>
                  <a:pt x="48" y="96"/>
                </a:cubicBezTo>
                <a:cubicBezTo>
                  <a:pt x="51" y="105"/>
                  <a:pt x="63" y="116"/>
                  <a:pt x="58" y="125"/>
                </a:cubicBezTo>
                <a:cubicBezTo>
                  <a:pt x="44" y="144"/>
                  <a:pt x="31" y="160"/>
                  <a:pt x="24" y="182"/>
                </a:cubicBezTo>
                <a:cubicBezTo>
                  <a:pt x="36" y="201"/>
                  <a:pt x="50" y="220"/>
                  <a:pt x="62" y="240"/>
                </a:cubicBezTo>
                <a:cubicBezTo>
                  <a:pt x="60" y="244"/>
                  <a:pt x="61" y="250"/>
                  <a:pt x="58" y="254"/>
                </a:cubicBezTo>
                <a:cubicBezTo>
                  <a:pt x="49" y="262"/>
                  <a:pt x="29" y="273"/>
                  <a:pt x="29" y="273"/>
                </a:cubicBezTo>
                <a:cubicBezTo>
                  <a:pt x="32" y="286"/>
                  <a:pt x="32" y="297"/>
                  <a:pt x="43" y="307"/>
                </a:cubicBezTo>
                <a:cubicBezTo>
                  <a:pt x="51" y="314"/>
                  <a:pt x="72" y="317"/>
                  <a:pt x="72" y="331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038480" y="6172200"/>
            <a:ext cx="114480" cy="457200"/>
          </a:xfrm>
          <a:custGeom>
            <a:avLst/>
            <a:gdLst/>
            <a:ahLst/>
            <a:rect l="l" t="t" r="r" b="b"/>
            <a:pathLst>
              <a:path w="48" h="192">
                <a:moveTo>
                  <a:pt x="0" y="0"/>
                </a:moveTo>
                <a:cubicBezTo>
                  <a:pt x="24" y="32"/>
                  <a:pt x="48" y="64"/>
                  <a:pt x="48" y="96"/>
                </a:cubicBezTo>
                <a:cubicBezTo>
                  <a:pt x="48" y="128"/>
                  <a:pt x="8" y="176"/>
                  <a:pt x="0" y="192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039560" y="464760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54440" y="5790240"/>
            <a:ext cx="474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r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221480" y="5790240"/>
            <a:ext cx="474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r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311560" y="5790240"/>
            <a:ext cx="53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R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378240" y="5790240"/>
            <a:ext cx="53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R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658040" y="5790240"/>
            <a:ext cx="567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R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750280" y="5790240"/>
            <a:ext cx="567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R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929640" y="5790240"/>
            <a:ext cx="444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r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996320" y="5790240"/>
            <a:ext cx="444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r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7543800" y="457200"/>
            <a:ext cx="1600200" cy="3429000"/>
            <a:chOff x="7543800" y="457200"/>
            <a:chExt cx="1600200" cy="3429000"/>
          </a:xfrm>
        </p:grpSpPr>
        <p:pic>
          <p:nvPicPr>
            <p:cNvPr id="781" name="" descr=""/>
            <p:cNvPicPr/>
            <p:nvPr/>
          </p:nvPicPr>
          <p:blipFill>
            <a:blip r:embed="rId1"/>
            <a:stretch/>
          </p:blipFill>
          <p:spPr>
            <a:xfrm>
              <a:off x="7869240" y="2590920"/>
              <a:ext cx="12747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2" name=""/>
            <p:cNvSpPr/>
            <p:nvPr/>
          </p:nvSpPr>
          <p:spPr>
            <a:xfrm>
              <a:off x="7543800" y="457200"/>
              <a:ext cx="1371600" cy="1523880"/>
            </a:xfrm>
            <a:prstGeom prst="wedgeEllipseCallout">
              <a:avLst>
                <a:gd name="adj1" fmla="val -115"/>
                <a:gd name="adj2" fmla="val 97398"/>
              </a:avLst>
            </a:prstGeom>
            <a:solidFill>
              <a:srgbClr val="ffea18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Can you</a:t>
              </a:r>
              <a:br>
                <a:rPr sz="1600"/>
              </a:b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think</a:t>
              </a:r>
              <a:br>
                <a:rPr sz="1600"/>
              </a:b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of an</a:t>
              </a:r>
              <a:br>
                <a:rPr sz="1600"/>
              </a:b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exception</a:t>
              </a:r>
              <a:br>
                <a:rPr sz="1600"/>
              </a:b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to this?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83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6A12-B711-4D2A-95AE-ED56DEE48425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4" name=""/>
          <p:cNvGrpSpPr/>
          <p:nvPr/>
        </p:nvGrpSpPr>
        <p:grpSpPr>
          <a:xfrm>
            <a:off x="5273640" y="1143000"/>
            <a:ext cx="3793680" cy="5714640"/>
            <a:chOff x="5273640" y="1143000"/>
            <a:chExt cx="3793680" cy="5714640"/>
          </a:xfrm>
        </p:grpSpPr>
        <p:pic>
          <p:nvPicPr>
            <p:cNvPr id="785" name="" descr=""/>
            <p:cNvPicPr/>
            <p:nvPr/>
          </p:nvPicPr>
          <p:blipFill>
            <a:blip r:embed="rId1"/>
            <a:srcRect l="61970" t="0" r="0" b="4984"/>
            <a:stretch/>
          </p:blipFill>
          <p:spPr>
            <a:xfrm>
              <a:off x="5940000" y="1143000"/>
              <a:ext cx="3127320" cy="57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"/>
            <p:cNvSpPr/>
            <p:nvPr/>
          </p:nvSpPr>
          <p:spPr>
            <a:xfrm>
              <a:off x="5273640" y="1528920"/>
              <a:ext cx="1886400" cy="61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aw of Independent Assortmen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6781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at meiotic event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reates the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aw of independent assortment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4571640" y="3580920"/>
            <a:ext cx="2210040" cy="838800"/>
            <a:chOff x="4571640" y="3580920"/>
            <a:chExt cx="2210040" cy="838800"/>
          </a:xfrm>
        </p:grpSpPr>
        <p:sp>
          <p:nvSpPr>
            <p:cNvPr id="790" name=""/>
            <p:cNvSpPr/>
            <p:nvPr/>
          </p:nvSpPr>
          <p:spPr>
            <a:xfrm>
              <a:off x="4647960" y="3886200"/>
              <a:ext cx="2133720" cy="533520"/>
            </a:xfrm>
            <a:custGeom>
              <a:avLst/>
              <a:gdLst>
                <a:gd name="textAreaLeft" fmla="*/ 333360 w 2133720"/>
                <a:gd name="textAreaRight" fmla="*/ 1867320 w 213372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1640" y="3580920"/>
              <a:ext cx="1671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Meiosis 1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990720" y="3429000"/>
            <a:ext cx="2133360" cy="3352680"/>
            <a:chOff x="990720" y="3429000"/>
            <a:chExt cx="2133360" cy="3352680"/>
          </a:xfrm>
        </p:grpSpPr>
        <p:pic>
          <p:nvPicPr>
            <p:cNvPr id="793" name="" descr=""/>
            <p:cNvPicPr/>
            <p:nvPr/>
          </p:nvPicPr>
          <p:blipFill>
            <a:blip r:embed="rId2"/>
            <a:stretch/>
          </p:blipFill>
          <p:spPr>
            <a:xfrm flipH="1">
              <a:off x="990720" y="5486400"/>
              <a:ext cx="12744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"/>
            <p:cNvSpPr/>
            <p:nvPr/>
          </p:nvSpPr>
          <p:spPr>
            <a:xfrm flipH="1">
              <a:off x="990720" y="3429000"/>
              <a:ext cx="2133360" cy="1600200"/>
            </a:xfrm>
            <a:prstGeom prst="wedgeEllipseCallout">
              <a:avLst>
                <a:gd name="adj1" fmla="val 4162"/>
                <a:gd name="adj2" fmla="val 90078"/>
              </a:avLst>
            </a:prstGeom>
            <a:solidFill>
              <a:srgbClr val="ffea18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Remember…</a:t>
              </a:r>
              <a:br>
                <a:rPr sz="1600"/>
              </a:b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Mendel didn’t </a:t>
              </a:r>
              <a:br>
                <a:rPr sz="1600"/>
              </a:b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even know DNA </a:t>
              </a:r>
              <a:br>
                <a:rPr sz="1600"/>
              </a:b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—or genes—</a:t>
              </a:r>
              <a:br>
                <a:rPr sz="1600"/>
              </a:b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existed!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DB89-1369-4B71-AA4F-BA9D76E6FC00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" name="" descr=""/>
          <p:cNvPicPr/>
          <p:nvPr/>
        </p:nvPicPr>
        <p:blipFill>
          <a:blip r:embed="rId1"/>
          <a:stretch/>
        </p:blipFill>
        <p:spPr>
          <a:xfrm>
            <a:off x="3179880" y="380880"/>
            <a:ext cx="5964120" cy="6477120"/>
          </a:xfrm>
          <a:prstGeom prst="rect">
            <a:avLst/>
          </a:prstGeom>
          <a:ln w="0">
            <a:noFill/>
          </a:ln>
        </p:spPr>
      </p:pic>
      <p:sp>
        <p:nvSpPr>
          <p:cNvPr id="797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2743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e chromosomal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asis of Mendel’s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laws…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race the genetic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vents through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eiosis, gamete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ormation &amp;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ertilization to offspring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D5F6-DCA5-4A01-B950-105D646E1303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733920" y="2895480"/>
            <a:ext cx="236196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One Op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172200" y="2895480"/>
            <a:ext cx="25146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The Other Op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9" dur="50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5" dur="500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view: Mendel’s laws of heredity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Law of segregation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monohybrid cross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ingle trait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ach allele segregates into separate gamete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established by Meiosis 1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Law of independent assortment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dihybrid (or more) cros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2 or more traits 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ach pair of alleles for genes on separate chromosomes segregates into gametes independently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established by Meiosis 1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9031-F939-41CB-B6B6-C9F490D79A63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endel chose peas wisel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ea plants are good for genetic research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vailable in many varieties with distinct heritable features with different variatio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lower color, seed color, seed shape, etc.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endel had strict control over which plants mated with whic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ach pea plant has male &amp; female structur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ea plants can self-fertiliz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endel could also cross-pollinate plants: moving pollen from one plant to another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C7B9-8B69-4EA1-B11A-C66F38F94F48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rcRect l="0" t="2252" r="7878" b="0"/>
          <a:stretch/>
        </p:blipFill>
        <p:spPr>
          <a:xfrm>
            <a:off x="3970440" y="2666880"/>
            <a:ext cx="5097240" cy="40561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endel’s work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red pea plant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ross-pollinated true breeding parents (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aised seed &amp; then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bserved traits (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F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ilia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llowed offspring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o cross-pollinate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&amp; observed next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eneration (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F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5351-F580-456A-9A37-0AC484E1976E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endel chose peas luckil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153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ea plants are good for genetic research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elatively simple geneticall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ost characters are controlled by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 single gen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ach gene has only 2 alleles,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one of which is completely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ominant over the other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809" name="" descr=""/>
          <p:cNvPicPr/>
          <p:nvPr/>
        </p:nvPicPr>
        <p:blipFill>
          <a:blip r:embed="rId1"/>
          <a:stretch/>
        </p:blipFill>
        <p:spPr>
          <a:xfrm>
            <a:off x="76320" y="5738760"/>
            <a:ext cx="1676160" cy="966960"/>
          </a:xfrm>
          <a:prstGeom prst="rect">
            <a:avLst/>
          </a:prstGeom>
          <a:ln w="0">
            <a:noFill/>
          </a:ln>
        </p:spPr>
      </p:pic>
      <p:pic>
        <p:nvPicPr>
          <p:cNvPr id="810" name="" descr=""/>
          <p:cNvPicPr/>
          <p:nvPr/>
        </p:nvPicPr>
        <p:blipFill>
          <a:blip r:embed="rId2"/>
          <a:stretch/>
        </p:blipFill>
        <p:spPr>
          <a:xfrm>
            <a:off x="6811920" y="3249720"/>
            <a:ext cx="2332080" cy="3608280"/>
          </a:xfrm>
          <a:prstGeom prst="rect">
            <a:avLst/>
          </a:prstGeom>
          <a:ln w="0">
            <a:noFill/>
          </a:ln>
        </p:spPr>
      </p:pic>
      <p:sp>
        <p:nvSpPr>
          <p:cNvPr id="811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354E-3193-4F5E-8177-307EFCD2CADD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y Questions?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813" name="" descr=""/>
          <p:cNvPicPr/>
          <p:nvPr/>
        </p:nvPicPr>
        <p:blipFill>
          <a:blip r:embed="rId1"/>
          <a:stretch/>
        </p:blipFill>
        <p:spPr>
          <a:xfrm>
            <a:off x="2895480" y="2133720"/>
            <a:ext cx="3143520" cy="4421160"/>
          </a:xfrm>
          <a:prstGeom prst="rect">
            <a:avLst/>
          </a:prstGeom>
          <a:ln w="0">
            <a:noFill/>
          </a:ln>
        </p:spPr>
      </p:pic>
      <p:sp>
        <p:nvSpPr>
          <p:cNvPr id="814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6EF5-A138-4CDA-8EF8-60D312A32E67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45840" y="669240"/>
            <a:ext cx="6863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Mendel collected data for 7 pea traits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0" t="2013" r="0" b="0"/>
          <a:stretch/>
        </p:blipFill>
        <p:spPr>
          <a:xfrm>
            <a:off x="1295280" y="1228680"/>
            <a:ext cx="6629400" cy="5629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6539-DDF0-4A06-9497-3444B8B0ADF8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6324480"/>
            <a:ext cx="19051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67543" t="0" r="15927" b="82803"/>
          <a:stretch/>
        </p:blipFill>
        <p:spPr>
          <a:xfrm>
            <a:off x="5684760" y="1905120"/>
            <a:ext cx="755640" cy="8348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rcRect l="47789" t="0" r="35681" b="82803"/>
          <a:stretch/>
        </p:blipFill>
        <p:spPr>
          <a:xfrm>
            <a:off x="2725560" y="1905120"/>
            <a:ext cx="754200" cy="8348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ooking closer at Mendel’s work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56800" y="1369800"/>
            <a:ext cx="266328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true-breeding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purple-flower pea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04920" y="1369800"/>
            <a:ext cx="252324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ue-breeding 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ite-flower pea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79760" y="1512360"/>
            <a:ext cx="40176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09840" y="3122280"/>
            <a:ext cx="8341560" cy="1448280"/>
            <a:chOff x="609840" y="3122280"/>
            <a:chExt cx="8341560" cy="1448280"/>
          </a:xfrm>
        </p:grpSpPr>
        <p:sp>
          <p:nvSpPr>
            <p:cNvPr id="130" name=""/>
            <p:cNvSpPr/>
            <p:nvPr/>
          </p:nvSpPr>
          <p:spPr>
            <a:xfrm>
              <a:off x="7796880" y="3504960"/>
              <a:ext cx="1154520" cy="413640"/>
            </a:xfrm>
            <a:prstGeom prst="rect">
              <a:avLst/>
            </a:pr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100%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52240" y="3122280"/>
              <a:ext cx="2663280" cy="63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100%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660066"/>
                  </a:solidFill>
                  <a:latin typeface="Arial"/>
                </a:rPr>
                <a:t>purple-flower peas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9840" y="3268440"/>
              <a:ext cx="1482120" cy="1010520"/>
            </a:xfrm>
            <a:prstGeom prst="rect">
              <a:avLst/>
            </a:pr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F</a:t>
              </a:r>
              <a:r>
                <a:rPr b="1" lang="en-US" sz="3000" spc="-1" strike="noStrike" baseline="-25000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generation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(hybrids)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133" name="" descr=""/>
            <p:cNvPicPr/>
            <p:nvPr/>
          </p:nvPicPr>
          <p:blipFill>
            <a:blip r:embed="rId3"/>
            <a:srcRect l="47789" t="0" r="35681" b="82803"/>
            <a:stretch/>
          </p:blipFill>
          <p:spPr>
            <a:xfrm>
              <a:off x="2979720" y="3735360"/>
              <a:ext cx="754200" cy="83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4"/>
            <a:srcRect l="47789" t="0" r="35681" b="82803"/>
            <a:stretch/>
          </p:blipFill>
          <p:spPr>
            <a:xfrm>
              <a:off x="3817800" y="3735360"/>
              <a:ext cx="754200" cy="83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5"/>
            <a:srcRect l="47789" t="0" r="35681" b="82803"/>
            <a:stretch/>
          </p:blipFill>
          <p:spPr>
            <a:xfrm>
              <a:off x="4656240" y="3735360"/>
              <a:ext cx="753840" cy="83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6"/>
            <a:srcRect l="47789" t="0" r="35681" b="82803"/>
            <a:stretch/>
          </p:blipFill>
          <p:spPr>
            <a:xfrm>
              <a:off x="5494320" y="3735360"/>
              <a:ext cx="75420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"/>
          <p:cNvSpPr/>
          <p:nvPr/>
        </p:nvSpPr>
        <p:spPr>
          <a:xfrm>
            <a:off x="4495680" y="2057400"/>
            <a:ext cx="228600" cy="838080"/>
          </a:xfrm>
          <a:prstGeom prst="downArrow">
            <a:avLst>
              <a:gd name="adj1" fmla="val 50000"/>
              <a:gd name="adj2" fmla="val 91654"/>
            </a:avLst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09840" y="5313240"/>
            <a:ext cx="8135280" cy="1392480"/>
            <a:chOff x="609840" y="5313240"/>
            <a:chExt cx="8135280" cy="1392480"/>
          </a:xfrm>
        </p:grpSpPr>
        <p:pic>
          <p:nvPicPr>
            <p:cNvPr id="139" name="" descr=""/>
            <p:cNvPicPr/>
            <p:nvPr/>
          </p:nvPicPr>
          <p:blipFill>
            <a:blip r:embed="rId7"/>
            <a:srcRect l="67543" t="0" r="15927" b="82803"/>
            <a:stretch/>
          </p:blipFill>
          <p:spPr>
            <a:xfrm>
              <a:off x="5686560" y="5870520"/>
              <a:ext cx="75564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4804920" y="5313240"/>
              <a:ext cx="2523240" cy="63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ヒラギノ角ゴ Pro W3"/>
                </a:rPr>
                <a:t>_x0008__x0008_</a:t>
              </a: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25%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hite-flower peas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09840" y="5767200"/>
              <a:ext cx="1482120" cy="734040"/>
            </a:xfrm>
            <a:prstGeom prst="rect">
              <a:avLst/>
            </a:pr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F</a:t>
              </a:r>
              <a:r>
                <a:rPr b="1" lang="en-US" sz="30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generation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142" name="" descr=""/>
            <p:cNvPicPr/>
            <p:nvPr/>
          </p:nvPicPr>
          <p:blipFill>
            <a:blip r:embed="rId8"/>
            <a:srcRect l="47789" t="0" r="35681" b="82803"/>
            <a:stretch/>
          </p:blipFill>
          <p:spPr>
            <a:xfrm>
              <a:off x="2211480" y="5870520"/>
              <a:ext cx="753840" cy="83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9"/>
            <a:srcRect l="47789" t="0" r="35681" b="82803"/>
            <a:stretch/>
          </p:blipFill>
          <p:spPr>
            <a:xfrm>
              <a:off x="3049560" y="5870520"/>
              <a:ext cx="754200" cy="83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10"/>
            <a:srcRect l="47789" t="0" r="35681" b="82803"/>
            <a:stretch/>
          </p:blipFill>
          <p:spPr>
            <a:xfrm>
              <a:off x="3887640" y="5870520"/>
              <a:ext cx="75420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055240" y="5313240"/>
              <a:ext cx="2663280" cy="63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75%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660066"/>
                  </a:solidFill>
                  <a:latin typeface="Arial"/>
                </a:rPr>
                <a:t>purple-flower peas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014320" y="5378040"/>
              <a:ext cx="730800" cy="413640"/>
            </a:xfrm>
            <a:prstGeom prst="rect">
              <a:avLst/>
            </a:pr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3:1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10920" y="1644120"/>
            <a:ext cx="435240" cy="41364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29680" y="4648320"/>
            <a:ext cx="4494600" cy="838080"/>
            <a:chOff x="229680" y="4648320"/>
            <a:chExt cx="4494600" cy="838080"/>
          </a:xfrm>
        </p:grpSpPr>
        <p:sp>
          <p:nvSpPr>
            <p:cNvPr id="149" name=""/>
            <p:cNvSpPr/>
            <p:nvPr/>
          </p:nvSpPr>
          <p:spPr>
            <a:xfrm>
              <a:off x="4495680" y="4800600"/>
              <a:ext cx="228600" cy="685800"/>
            </a:xfrm>
            <a:prstGeom prst="downArrow">
              <a:avLst>
                <a:gd name="adj1" fmla="val 50000"/>
                <a:gd name="adj2" fmla="val 75000"/>
              </a:avLst>
            </a:prstGeom>
            <a:solidFill>
              <a:srgbClr val="0f116a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229680" y="4648320"/>
              <a:ext cx="1980000" cy="609480"/>
              <a:chOff x="229680" y="4648320"/>
              <a:chExt cx="1980000" cy="609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04920" y="4648320"/>
                <a:ext cx="1904760" cy="609480"/>
              </a:xfrm>
              <a:prstGeom prst="rightArrow">
                <a:avLst>
                  <a:gd name="adj1" fmla="val 50000"/>
                  <a:gd name="adj2" fmla="val 78131"/>
                </a:avLst>
              </a:prstGeom>
              <a:solidFill>
                <a:srgbClr val="ffcc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29680" y="4739400"/>
                <a:ext cx="190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self-pollinate</a:t>
                </a:r>
                <a:endParaRPr b="0" lang="en-US" sz="2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73B4-FC48-4BDD-BAB9-8B83C44E5AF2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at did Mendel’s findings mean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raits come in alternative versio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urple vs. white flower colo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allel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ifferent alleles vary in the sequence of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nucleotides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at the specific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locus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of a gen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105520" y="3963960"/>
            <a:ext cx="3886200" cy="28177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143000" y="3960360"/>
            <a:ext cx="3429000" cy="155700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urple-flower allele &amp; white-flower allele are 2 DNA variations at flower-color locu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5486400"/>
            <a:ext cx="3429000" cy="119124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ifferent versions of gene on homologous chromosom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2FC1-D476-4C3D-BF4A-2CEBD1346CAA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raits are inherited as discrete unit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r each characteristic, an organism inherits 2 alleles, 1 from each paren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diploid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organism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inherits 2 sets of chromosomes,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1 from each parent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homologous chromosom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like having 2 editions of encyclopedia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ncyclopedia Britannica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ncyclopedia Americana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648320" y="5562720"/>
            <a:ext cx="4398840" cy="1295280"/>
            <a:chOff x="4648320" y="5562720"/>
            <a:chExt cx="4398840" cy="1295280"/>
          </a:xfrm>
        </p:grpSpPr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7772400" y="5562720"/>
              <a:ext cx="12747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648320" y="5562720"/>
              <a:ext cx="2286000" cy="1066680"/>
            </a:xfrm>
            <a:prstGeom prst="wedgeEllipseCallout">
              <a:avLst>
                <a:gd name="adj1" fmla="val 100694"/>
                <a:gd name="adj2" fmla="val -18898"/>
              </a:avLst>
            </a:prstGeom>
            <a:solidFill>
              <a:srgbClr val="ffea18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What are the</a:t>
              </a:r>
              <a:br>
                <a:rPr sz="1600"/>
              </a:b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advantages of</a:t>
              </a:r>
              <a:br>
                <a:rPr sz="1600"/>
              </a:b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being diploid?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DC0B-1E78-4625-A70A-B3BDDD6E495E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at did Mendel’s findings mean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ome traits mask others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urple &amp; white flower colors are separate traits that do not blend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44"/>
                </a:solidFill>
                <a:latin typeface="Arial"/>
              </a:rPr>
              <a:t>purpl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t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≠ </a:t>
            </a:r>
            <a:r>
              <a:rPr b="1" lang="en-US" sz="2400" spc="-1" strike="noStrike">
                <a:solidFill>
                  <a:srgbClr val="8044bc"/>
                </a:solidFill>
                <a:latin typeface="Arial"/>
              </a:rPr>
              <a:t>light purpl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44"/>
                </a:solidFill>
                <a:latin typeface="Arial"/>
              </a:rPr>
              <a:t>purpl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mask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dominant allel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ully expressed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recessive allel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no noticeable effect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e gene makes a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non-functional protei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400800" y="2959200"/>
            <a:ext cx="2666880" cy="37465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FF19-DB60-4893-8FA3-10155F2F8681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enotype vs. phenotyp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ifference between how an organism “looks” &amp; its genetic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phenotyp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escription of an organism’s trait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genotyp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escription of an organism’s genetic makeup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7056360" y="4191120"/>
            <a:ext cx="2077920" cy="2589120"/>
            <a:chOff x="7056360" y="4191120"/>
            <a:chExt cx="2077920" cy="2589120"/>
          </a:xfrm>
        </p:grpSpPr>
        <p:pic>
          <p:nvPicPr>
            <p:cNvPr id="173" name="" descr=""/>
            <p:cNvPicPr/>
            <p:nvPr/>
          </p:nvPicPr>
          <p:blipFill>
            <a:blip r:embed="rId1"/>
            <a:srcRect l="44605" t="0" r="11727" b="46683"/>
            <a:stretch/>
          </p:blipFill>
          <p:spPr>
            <a:xfrm>
              <a:off x="7056360" y="4191120"/>
              <a:ext cx="1997280" cy="258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8715600" y="5843880"/>
              <a:ext cx="418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F</a:t>
              </a:r>
              <a:r>
                <a:rPr b="1" lang="en-US" sz="2000" spc="-1" strike="noStrike" baseline="-25000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749080" y="47995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1523880" y="4876920"/>
            <a:ext cx="5410440" cy="1143000"/>
          </a:xfrm>
          <a:custGeom>
            <a:avLst/>
            <a:gdLst>
              <a:gd name="textAreaLeft" fmla="*/ 0 w 5410440"/>
              <a:gd name="textAreaRight" fmla="*/ 5410800 w 54104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ea18"/>
          </a:solidFill>
          <a:ln w="93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Explain Mendel’s results using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…</a:t>
            </a: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dominant &amp; recessive 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…</a:t>
            </a: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phenotype &amp; gentotyp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E0F9-75BC-4F22-82C5-A20FC2936628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01:03:27Z</dcterms:created>
  <dc:creator>Kim Foglia</dc:creator>
  <dc:description>All Rights Reserved. Copyright 2003. WD Interactive.</dc:description>
  <cp:keywords>Education Biology Zone Kim Foglia</cp:keywords>
  <dc:language>en-US</dc:language>
  <cp:lastModifiedBy> </cp:lastModifiedBy>
  <cp:lastPrinted>2006-01-12T03:28:47Z</cp:lastPrinted>
  <dcterms:modified xsi:type="dcterms:W3CDTF">2006-11-30T02:39:38Z</dcterms:modified>
  <cp:revision>39</cp:revision>
  <dc:subject>AP &amp; Regents Biology</dc:subject>
  <dc:title>Family resemblance can be striking!</dc:title>
</cp:coreProperties>
</file>